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993-0E9F-4221-9676-6B1E7945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9B6-078A-4587-9909-6C884A91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961-4029-4E45-ADA7-9C6E7AC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3F0-1230-4F5D-932A-54E760BE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A4D-F6F3-4508-8942-16363A79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0032-6E3A-44B2-8690-6311C59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9387-B544-4B9A-BBAC-1902DDE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3E78-AC82-41C2-AAB3-063957D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9BE6-5589-4779-87B6-0705D7C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A8B-505F-4E77-87AC-6BA88BC4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4A6D-2ACD-41EA-A935-388F77E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A23-22D6-4038-8A9D-D139B15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A79-CF40-48FE-AB8A-E8BF7DED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EF1B-DE25-4F3F-AEA5-9D1927F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218-83DE-4C8E-98FE-D97E63F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806-9E48-4DB1-8E30-F2EECCDA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552D-DDCF-48A9-9A07-DD46B185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B50-9247-4C1C-BC49-6156FE6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673-32D1-45D5-B5E8-1830FA3C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72F-279A-4FD3-BDDA-855EEF4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776-F01D-44D7-9508-1BA81551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330-257B-415B-89D7-B47B856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9A6-7CFD-46F2-942A-162F20D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FE7-5A5D-4E82-9865-D265C8A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8C4-046B-4F4A-921A-8F565B643C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8FC-7995-494F-A816-3F83EAF82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a aktivn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 pasivn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munizacij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ica u posebnom rizik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oholiz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lantacije organa i tk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og obolje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starijih od 65 godina života u kolektivnom smešta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e sprovodi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 kod dece starije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ve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davanjem jedne doze vakcin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ri do pet godi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kon vakcina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saharidna vakcina daje s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amuskular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li supkutano u dozi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meningokoknog meningiti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meningokoknog meningitisa sprovodi s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olisaharidn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kcinom po kliničkim indikacijama kod dece starije od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ve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tomska i funkcionalna asplenija (splenektomija, srpasta anemija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unodeficijencija komplementa (C5-C9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se sprovodi davanjem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jedne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lisaharidne vakcine protiv meningokoknog meningitisa odmah po utvrđivanju indikaci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se sprovodi u razmaku ne kraćem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ri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d izvršene vakcinacije u slučaju da indikacije i dalje posto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polisaharidnom vakcinom može se sprovoditi i ukoliko je osoba prethodno vakcinisana konjugovanom vakcino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 protiv meningokoknog meningitisa daje se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uta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 dozi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velikog kašl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dece od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va meseca do pet god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život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elularnom vakcinom protiv velikog kašlja (DtaP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na osnovu kliničkih indika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liničke indikacije za davanje DtaP vakcine jes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a (rektalna)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i veća od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u roku 48 časova od prethodne doze DTP vakcine, a koja nije u vezi sa drugim mogućim uzrokom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ran, neutešan plač koji traje tri sata ili duže, a javlja se u roku 48 časova od prethodne doze DTP vakcin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aps ili stanje slično šoku (hipotonične-hiposenzitivne epizode) u roku 48 časova od prethodne doze DTaP vakci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vulzije bilo febrilne ili afebrilne koje se javljaju unutar tri dana od prethodne doze DT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iničku indikaciju za davanje DtaP vakcine iz stava 2. ovog člana utvrđuje Stručni tim iz člana 10. ovog pravilnika nakon razmatranja prijave neželjene reakcije na prethodnu dozu DTa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utnika u međunarodnom saobraćaj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nici u međunarodnom saobraćaju vakcinišu se ako putuju u zemlje koje zahtevaju određenu vakcinu i prema epidemiološkim indikacijama, u skladu sa Međunarodnim zdravstvenim pravilnikom protiv sledećih bole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žute groznice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avez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ingokoknog meningitisa-preporučen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bušnog tifu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e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ter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ih zaraznih bolesti (akutnog virusnog hepatitisa B, besnilo, tetanus, malih boginja i dr.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ktivna imunizacija protiv grip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protiv gripa sprovodi se inaktivisanom vakcinom protiv gripa spravljenom od celih virusa ili SPLIT vakcinom koja sadrži delove virusa odgovorne za imunit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ma kliničkim indikacijama, vakcinacija se sprovodi kod svih lica starijih od šest meseci sa hroničnim poremećajima pl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g i kardiovaskularnog sistema i sa metaboličkim poremećajima (uključujući šećernu bolest), bubrežnom disfunkcijom, hemoglobinopatijom, imunosupresijom i d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ma epidemiološkim indikacijama vakcinacija se sprovod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meštenih u gerontološkim centrima i kod lica zaposlenih u gerontološkim centri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dece, omladine i starih lica smeštenih u ustanovama socijalne zaštite i kod lica zaposlenih u tim ustanova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objektima u kojima se obavlja zdravstvena delatnost, a naročito u odeljenjima sa povećanim rizikom, stacionarima za hronično obolela lica i d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javnim službama posebno eksponiranih infekciji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tarijih od 65 godina živo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zaštitu dece uzrasta od navršenih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šest meseci do navršenih osam godina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risti se isključivo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LIT vakc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koja se prvi put vakcinišu dobijaj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u razmaku od 30 dana, a narednih godina samo po jednu dozu vakc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od navršenih šest meseci do navršene tri godine života dobijaju 0,25 ml SPLIT vakcine, a deca uzrasta od navršene tri do navršenih osam godina života dobijaju dozu za odrasle (0,5 m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 lica starija od osam godina života vakcinišu se samo jednom dozom celovirusne ili SPLIT vakcine (0,5 m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 se daje intramuskularno ili duboko supkutano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provodi se HiB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om, prema kliničkim indikacijama, kod dece starije od dve godine života bez obzira na prethodni vakcionalni status, u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latacije organa i tkiv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enektomije i 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ioterapije i terapije zračenjem kod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se sprovodi jednom dozom vakcin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eriodu 14 i više dana pre planirane transplantacije, elektivne splenktomije, terapije zračenjem ili hemioterapije kod malignih tumor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asimptomatske HIV infek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se sprovodi sa dve doze vakcine u razmaku ne kraćem od mesec dana u sledećim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le izvršene transplantacije organa i tkiva u toku imunosupresivne terapije, a prema savetu imunolo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 slezina nije u funkciji ili 14 i više dana posle izvršene splenekto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toku hemioterapije ili terapije zračenjem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streptokokusom pneumonije (pneumokoko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streptokokusom pneumonije (pneumokokom) vrši s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olisaharidnom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 kliničkim indikacijama, u sledećim slučajevi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ske ili funkcionalne asplen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e kardiovaskularne i pluć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ećer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jetr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bub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frotskog sindro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8:21Z</dcterms:created>
  <dc:creator>Intel</dc:creator>
  <dc:description/>
  <dc:language>en-US</dc:language>
  <cp:lastModifiedBy>Korisnik</cp:lastModifiedBy>
  <dcterms:modified xsi:type="dcterms:W3CDTF">2019-11-01T08:31:38Z</dcterms:modified>
  <cp:revision>10</cp:revision>
  <dc:subject/>
  <dc:title>Aktivna imunizacija po kliničkim indikacij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