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B64-A31C-4977-888E-C01DEB7D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596-2E5B-46D3-ABC6-E14F083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CF8-2A06-424C-9D2D-BD0469AF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127-7212-4943-882F-B6327D71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9541D-8053-4647-A866-2708C537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AC77F-1A3A-4913-924F-D9A7679E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C1C7D-DC8D-4926-A9BF-60A739C7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E5D19-0863-4E16-ACCE-B76F3826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C34C2-CA8A-4D37-85B4-0AD73240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D84CE-D9D7-4160-A385-28D4C3E9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36228-7346-486E-BB20-87CDF7E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B1C-DE99-4A55-9935-6FA625FC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E992D-F51C-427E-BBE4-ACDDFE96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BFD3F-5D02-4E52-B0B4-81362B49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6F790-8AB9-4BCC-A193-CD55AC87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0605E-202D-4ED9-B303-8C2A70BA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801B6-E012-4DC7-82A7-AF657071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374-C5CA-4944-8D44-14791E5B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4CF-7FCC-4BB9-856D-0527CFE3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016-61D1-4CE3-9076-C6967DED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59F-569D-4C21-B729-BEF189A8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526-429F-472E-96D6-540E8F72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235-71AD-4BC9-801D-5E09854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EEA-75CD-4A5C-B28F-6B10D658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84C8-078C-4538-874B-745D841DE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7AEA-F1DC-4FC3-9760-F9F643DD80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cc00"/>
                </a:solidFill>
                <a:uFillTx/>
                <a:latin typeface="Times New Roman"/>
              </a:rPr>
              <a:t>Prijavljivanj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va, osnovna protivepidemijska m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ilj prijavljivanja je da se upozna epidemiološka služba sa postojanjem neke zarazne bolesti, infekcije ili epidemije, kako bi se omogućilo sprovođenje ostalih protivepidemijskih m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pidemiološka služba stiče uvid u raširenost neke bolesti u stanovništvu, omogućava se praćenje kretanja te bolesti tokom određenog vremena (trend), omogućava se primena postojećih ili čak otkrivanje i primena novih profilaktičkih m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tn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tnom prijavom prijavljuje se sumnja da postoji oboljenje od: kolere, kuge, velikih boginja, žute groznice, virusne hemoragijske groznice, SARS-a, poliomijelitisa, difterije, malih boginja, botulizma, kao i pojave nepoznate zarazne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tno prijavljivanje vrši se odmah po postavljanju sum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E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uvođenjem sistema ranog upozoravanja na teritoriji na kojoj zavod ili institut za javno zdrav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e boginje, poliomijelitis uzrokovan divljim sojem polio virusa, influenca novog podtipa koja izaziva oboljenje kod ljudi i S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E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događajem se podrazumeva pojava sindroma, bolesti, odnosno stanja ili okolnost koja pogoduje nastanku sindroma, bolesti ili st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jedinačnom prijavom prijavljuje se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oboljenje od zarazne bolest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smrt od zaraz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smrt od zarazne bolesti koja nije navedena u članu 2. ovog pravilnik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sumnja da postoji oboljenje od zarazne bolesti utvrđene u članu 6. stav 1. ovog pravilnik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izlučivanje uzročnika trbušnog tifusa i paratifusa (Z 22.0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jedinačna prija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izlučivanje uzročnika drugih salmoneloza, šigeloza, jersinioza, kampilobakterioza (Z 22.1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nosilaštvo antigena virusnog hepatitisa B (HBsAg – Z 22.5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nosilaštvo antitela na virusni hepatitis C (anti HCV – Z 22.9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jedinačn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laboratorijski utvrđen uzročnik ili mikrobiološki marker prisustva uzročnika zaraz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nosilaštvo parazita – uzročnika malarije (Z 22.8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nosilaštvo antitela na HIV (anti HIV – Z 2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birn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birnom prijavom prijavljuju se oboljenja slična gripu, akutne respiratorne infekcije i teške akutne respiratorne infe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u epidemije zarazne bolesti popunjava doktor medicine specijalista epidemiologije iz zavoda, odnosno instituta za javno zdravlje koji utvrdi epidem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ja zarazne bolesti prijavljuje se odmah, a najkasnije u roku od tri dana od dana kada je epidemija utvrđ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javi epidemije zarazne bolesti nastale upotrebom životnih namirnica i vode poreklom iz objekata pod sanitarnim nadzorom, odmah se putem telefona, elektronskom poštom ili na drugi način pogodan za brzo obaveštavanje, obaveštava i organ uprave nadležan za poslove sanitarnog nadzora na teritoriji na kojoj je epidemija utvrđe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javljivanje vrši lekar koji je postavio dijagnozu u roku od 24 časa ili odmah, na osnovu kliničke slike i laboratorijske dijagnoz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java epidemije zarazne bolesti vrši se po isteku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vostrukog najdužeg inkubacionog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a određenog za zaraznu bolest koja je prouzrokovala epidemi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000"/>
                </a:solidFill>
                <a:latin typeface="Times New Roman"/>
              </a:rPr>
              <a:t>Prijavljivanje masovnih hroničnih nezaraznih bole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akon iz 1980. god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javljuju se: rak i leukemije, ishemijska bolest srca, šećerna bolest, psihoze, depresija, narkomanija, mišićne distrofije, reumatska groznica, hronična bubrežna insuficijencija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Registr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u popunjava lekar koji je postavio dijagnoz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u dostavlja epidemiološkoj službi (Dom zdravlja, zavod za javno zdravlje, Institut za javno zdravlj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e se unose u registre (elekteronske baze podatak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pulacioni registar za rak Srb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pulacioni registar za akutni koronarni sindrom Srb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pulacioni registar za šećernu bolest Srb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Strategija za prevenciju i kontrolu masovnih hroničnih nezaraznih bolesti Republike Srb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Strategija za prevenciju i kontrolu hron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ih nezaraznih bolesti (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HNB) Republike Srbij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predstavlja sveobuhvatnu strategiju unapr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enja zdravlja stanovništva Srbije, kako dece tako 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draslih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ktivno je usmerena na grupe i pojedince sa pov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nim rizikom od nastanka hron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ih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ezaraznih bolesti, kao i na v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 obolele od HNB kojima su neophodni efikasno lecenje 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dekvatna ne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vni ciljev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je su zn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jno smanjenje obolevanja i umiranja stanovnika Srbije od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NB, poboljšanje njihovog kvaliteta života i smanjenje nejednakosti u zdravl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jom su obuhv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 kardiovaskularne bolesti, maligni tumori, dijabetes, hron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struktivna bolest pluca i bolesti muskuloskeletnog sistema (bez povreda), jer ove HNB v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enijama cine veliki deo opterecenja bolestima u Srbiji, a imaju zajednicke faktore rizik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ušenje, konzumiranje alkohola, nepravilna ishrana i fizicka neaktivnost) i socijalno-ekonomsk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a određene bolesti (ehinokokoza, besnilo, bruceloza, antraks, salmoneloza, leptospiroza, trihineloza, tularemija, Q-groznica, sakagija) obaveštava se i veterinarska inspekcij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cc00"/>
                </a:solidFill>
                <a:latin typeface="Times New Roman"/>
              </a:rPr>
              <a:t>PUT PRIJ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ijava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→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knjiga evidencije zaraznih bole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                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epidemiološka služba (HES ili epidemiolog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                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Institut za javno zdravlj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baveznom prijavljivanju u smislu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Zakona o zaštiti stanovništva od zaraznih bolesti (član 24),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odležu sledeći slučajev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obolen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odnosno smrt od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smrt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sumn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da postoji obolenje od kolere, kuge, velikih boginja, žute groznice, sars-Avirusnih hemoragičnih groznica, poliomijelitisa, difterije, malih boginja i botulizma, KAO I POJAVA NEPOZNATE ZARAZNE BOLE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epidem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izlučivanje uzročnik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trbušnog tifusa, paratifusa, drugih salmoneloza, šigeloza, jersinioza, kampilobakterioza, kao i nosilaštvo antigena virusnog hepatitisa B, prisustvo antitela na virusni hepatitis C, antitela na HIV i 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nosilaštvo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arazita uzročnika malarij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ogućnost infekcije virusom besnil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hospitalne infekci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bolnička infekcija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rezistencija bakterija na antimikrobne lekov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laboratorijski utvrđen uzročnik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akutna flakcidna paraliza (AF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Svaki neuobičajeni događaj koji može ukazivati na upotrebu bioškog agen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LJIVAN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vaka sumnja na pojavu zarazne bolesti koja odgovara definiciji opasnosti po zdravlje iz međunarodnog pravil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eželjena reakcija posle imuniz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no prijavljivanje slučajeva oboljenja, odnosno smrti od zarazne bolesti vrši se na sledeći nač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nultom prijav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hitnom prijav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sistemom za rano upozoravanje i hitno reagovanje (u daljem tekstu: ALERT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pojedinačnom prijav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zbirnom prijav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lt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tom prijavom prijavljuje se odsustvo/prisustvo akutne flakcidne paralize (AFP), malih boginja, kongenitalne rubele, drugih zaraznih bolesti i drugih slučajeva, u skladu sa međunarodnim sanitarnim konvencijama i potvrđenim međunarodnim ugovorima i program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Natasa Rancic</cp:lastModifiedBy>
  <dcterms:modified xsi:type="dcterms:W3CDTF">2017-10-26T07:31:14Z</dcterms:modified>
  <cp:revision>41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