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7F6-06BB-4A05-899F-E63921F6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27F-0C2C-4333-9036-D145D79E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8D6-01A4-46D7-9297-90C5408A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734-91DA-44C7-B427-8F058161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D7EFC-3DF1-4697-BC5D-54E5B11E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87032-2B87-4CC0-83A3-53B51293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B185-9A96-4940-8994-65E3CA7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E839D-D338-41DE-BC75-0BFEBB8C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C9B9-87FF-492E-9EB6-F5838F34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BD585-8F61-4369-A505-E70CF855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71A2A-338D-4070-8C9A-19AF40D6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69D-9D24-4314-B660-01F76762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9E0AF-85CA-4D0D-9061-5B32633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EE0C9-6E6B-4299-9408-E93FD97B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84E7C-04EF-4CFF-97B3-3D7D9E1F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341BC-94C4-48B7-976C-8C292FF8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F6A7A-AC94-439B-930C-A25FFC30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93B-5B66-4352-8255-98991CB6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657-3419-464C-9BDA-49C563B8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427-8BC5-4065-A0F1-497043EF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6BA-B2BB-4580-9FED-F910095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14B-F17A-41B6-94A6-8B995A5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95B-C34A-4742-A22D-3C32683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931-C189-45FD-9EA7-6FFA03D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C21-976A-42C2-A425-8968BE9ED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390D-4CD1-4312-B016-B7CB5E860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Organizacija obaveznih vakcinacija lica određenog uzrast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PRAVILNIK O IMUNIZACIJI I NAČINU ZAŠTITE LEKO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(Sl. glasnik RS br. ) 88/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Osnovni tekst na snazi od 30/09/2017 , u primeni od 30/09/201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obavez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kt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unizacij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a određenog uzrast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obavez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kt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pas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unizacij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a izloženih određenim zaraznim bolestim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obaveznu akt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pas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unizacij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a u posebnom riziku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5800" y="3808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IMUNIZACIJA PROTIV ODREĐENIH KATEGORIJA PROTIV ZARAZNIH BOLE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obavezna aktivna i pasivna imunizacija lica zaposlenih u zdravstvenim ustanovama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obavezna aktivna imunizacija putnika u međunarodnom saobraćaju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preporučena aktivna imunizacij lica određenog uzrasta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preporučena aktivna i pasivna imunizacija lica po kliničkim indikacijama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preporučena aktivna imunizacija putnika u međunarodnom saobraćaju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obavezna aktivna i pasivna imunizacija protiv besnila referentne zdravstvene ustanov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an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imunizacija je imunizacija lica određenog uzrasta, kao i drugih lica određenih zakonom, koju lice koje treba da se imunizuje, kao ni roditelj, odnosno staratelj,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ož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odbije, osim u  slučaju postojanja privremene ili trajne kontraindikacije koju utvrđuje doktor medi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IZACIJA LIC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DREĐENOG UZRASTA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tuberkuloz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ečije paral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ifter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4. Aktivna imunizacija protiv tetanu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5. Aktivna imunizacija protiv pertrusisa (velikog kašl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6. Aktivna imunizacija protiv malih boginja (morbil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7. Aktivna imunizacija protiv zaušaka  (m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8. Aktivna imunizacija protiv rubeole (crvenk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MUNIZACIJA LICA ODREĐENOG UZRAS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akutnog virusnog hepatitis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oboljenja izazvanih hemofilusom influence tip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1. Aktivna imunizacija protiv streptokokusa pneumon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BAVEZNA AKTIVNA I PASIVNAIMUNIZACIJA</a:t>
            </a:r>
            <a:br>
              <a:rPr sz="2400"/>
            </a:b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LICA EKSPONIRANIH ODREĐENIM ZARAZNIM BOLESTIMA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utnog virusnog hepatitisa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utnog virusnog hepatitisa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3. Besni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tan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5. Trbušni tif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lica u posebnom riziku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hepatitis B;2) grip; 3) meningokokna bolest; 4) oboljenja izazvana Streptokokom pneumonije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oboljenja izazvana Hemofilusom influence tip b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varičel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infekcije izazvane respiratornim sincicijalnim virus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lica zaposlenih u zdravstvenim ustanovam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hepatitis B; 2) grip; 3) male boginje; 4) rubela; 5) zauške; 6) difterija;7) veliki kašalj; 8) meningokokna bolest; 9) varičela;10) druge zarazne bolesti prema epidemiološkim indikacijama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predstavlja specifičnu i efikasnu meru u sprečavanju i suzbijanju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je najefikasnija i najjeftinija mera profilakse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se vrši vakcinama (vakcinacija, vakcinoprofilaks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specifičnim imunoglobulinima (seroprofilak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oručena aktivna imunizacija lica određenog uzrast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varičela; 2) oboljenja izazvana humanim papiloma virusima; 3) hepatitis A; 4) hepatitis B; 5) grip; 6) oboljenja izazvana Streptokokom pneumonije; 7) zoster; 8) rota virusne infekcije; 9) meningokokna bolest; 10) difterija; 11) tetanus; 12) veliki kašalj; 13) rubela; 14) krpeljski meningoencefalitis; 15) druge zarazne bolesti u skladu sa zakonom po epidemiološkim ind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kacijama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oručena aktivna i pasivna imunizacija lica po kliničkim indikacijam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ih se sprovodi preporučena aktivna imunizacija lica po kliničk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kacijama su: 1) hepatitis A; 2) hepatitis B; 3) grip; 4) oboljenja izazvana Streptokokom pneumonije; 5) druge zarazne bolesti u skladu sa zakono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ih se sprovodi preporučena pasivna imunizacija: 1) male boginje; 2) ovčije boginje; 3) infekcija citomegalovirusom; 4) druge zarazne bolesti u skladu sa zakon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poručena aktivna imunizacija putnika u međunarodnom saobraćaj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кlаdu sа Prаvilniкоm о imunizаciјi i nаčinu zаštitе lекоvimа (Službеni glаsniк RS, br. 88/2017, 11/2018, 14/2018, 45/2018, 48/2018 i 58/2018) i Mеđunаrоdnim zdrаvstvеnim prаvilniко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nici u mеđunаrоdnоm sаоbrаćајu sе vакcinišu ако putuјu u zеmljе које zаhtеvајu оdrеđеnu vакcinаciјu i prеmа еpidеmiоlоšкim indiкаciјаmа, prоtiv slеdеćih bоlеsti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žutе grоznicе; mеningококnоg mеningitisа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gih zаrаznih bоlеsti (hеpаtitisа А, hеpаtitisа B, trbušnоg tifusа, dеč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аrаlizе, diftеriје, tеtаnusа, mаlih bоginjа, vаričеlе i dr.)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 IMUNIZACIONOG STATUSA U SKLADU SA ZAKONO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va se pri svakoj poseti doktroru a obavezno zbo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isa u sve vrste predškolskih usta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upisa u sve vrste škola (od osnovne do visok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eštaja u ustanove za decu bez roditeljskog staran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ema u Vojsku Republike Srb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re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ema dece i omladine na bolničko leče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pošljavanje i pre obavljanja prakse u zdravstvenim ustanov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 vekcinalnog statusa protiv tetanusa i rubele kod žena generativnog peri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tev nadležnog zavoda/institu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drugim slučaje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 se može sprovodit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za druge zarazne bolesti koju doktor medicine ili specijalista odgovarajuće grane medicine nije dužan da preporuči ili koja se traži na lični zahtev pacijen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AKCINOPROFILAK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To je primena vakcina u profilaksi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ispozic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sklonost organizma da oboli od nek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Imunitet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tpornost organizma prema zaraznim boles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unitet se ogleda u stvaranju antitela, koja su specifična i odgovaraju svakom uzročniku bolesti sa kojim je organizam dolazio u kontakt i koji je podstakao njegovo stvaran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rodna otpornost (rezistencija)-nesposobnost jedne biološke vrste da oboli od pojedinih zaraznih bolesti druge biološke vrste (svinjska kuga, štenećak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načinu sticanja imunitet se može podeliti na nekoliko gru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Times New Roman"/>
              </a:rPr>
              <a:t>Imunitet: prirodni  i  veštač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ema načinu nastanka imunitet može biti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AKTIVAN i  PAS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rodan: akt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as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eštački: aktiv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as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Prirodni aktivni imunite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u vrstu imuniteta stvara sam organiz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staje 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posle prirodnog kontakt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omaćina sa uzročnikom zarazne bolesti, posle preležane bolesti koja je izražena u punoj kliničkoj formi, kao i  posle atipičnih, subkliničkih i inaparentnih kliničkih slika zarazn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vara se i posle većeg broja infekcija sa minimalnim količinama patogenih uzročnika koji nisu u stanju da izazovu nikakve kliničke manifestacije bolesti ("latentno prokuživanje"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imunizaciju i zaštitu lekovima (u daljem tekstu: hemioprofilaksu) protiv određenih zaraznih bolesti upotrebljavaju se imunobiološki preparati (vakcine i specifični imunoglobulini) i lekovi za koje je izd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ozvola od stra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cije za lekove i medicinska sredstva Srb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Pririodni aktivni imunitet može bi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oživotan imunite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posle preležane bolesti može da se stvori trajan,doživotan imunitet: male boginje, velike boginje, žuta groz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olidan imunitet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bolesti kod kojih se stvara dugotrajan imunitet koji nije doživotan, odnosno, postoji mogućnost ponovnog obolevanja (trbušni tifus, pegavac, pertusis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ratkotrajan imunitet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bolesti koje ostavljaju kratkotrajan imunitet i od kojih može da se oboli više puta u životu (kole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ratkotrajan, tip specifičan imunite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postoji kratkotrajan imunitet samo prema određenom tipu uzročnika (gri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e bolesti posle kojih se uopšt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ne stvar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imunitet: sifilis, gonoreja, povratna groznica, malar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e bolesti ko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većavaju sklonost k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bolevan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crveni vetar, streptokokne angine, her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Latentno stečen imunit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 je prirodni aktivni imun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avara se posle atipičnih formi zaraznih bolesti: poliomojelitis, šarlah, difte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vara se i posle latentnog prokuživanja: parotitis, poliomijelitis, difterij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Prirodni pasivn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lacentarno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ijaplacentarno) prenošenje antitela sa majke na plo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kom intrauterinog razvoja ploda, antitela majke prelaze u krvotok ploda i štite plod od infekcija i posle rođen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imunitet je kratkotrajan i traje 6 meseci, a dojenjem se produžav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titela sa velikom molekularnom težinom (protiv pertusisa) ne prolaze transplacentarnu barijer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EŠTAČK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Veštački imunitet:</a:t>
            </a: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ffff"/>
                </a:solidFill>
                <a:uFillTx/>
                <a:latin typeface="Times New Roman"/>
              </a:rPr>
              <a:t>aktivni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ffff"/>
                </a:solidFill>
                <a:uFillTx/>
                <a:latin typeface="Times New Roman"/>
              </a:rPr>
              <a:t>pasivn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EŠTAČKI AKTIVN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staje posle vakcinacije; odnosno, posle unošenja različitih antigena na koje organizam reaguje stvaranjem antitel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kcinacij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: namerno unošenje prouzrokovača neke zarazne bolesti (njegovih delova ili produkata-toksina) u organizam, s ciljem da organizam sam stvori specifičnu otpornost prema tom prouzrokovač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likom sprovođenja vakcinacije ne  nastaje obolenj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eč vakcina vodi poreklo od latinske reči vacca-što znači: krav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aziv potiče od Edvarda Dženera koji je uzimao sadržaj pustula kravljih boginja da bi stvorio vakcinu protiv velikih bogin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-imunobiološki preparat koji unet u organizam čoveka može da izazove stvaranje specifičnih antitel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riste se i termini: antigen, profilaktik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SNOVNE KARATERISTIKE V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zročnik, njegov deo ili produkti koje luči, 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MORAJU d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budu apatogeni, odnosno atoksični za čovekov organizam, ali da pri tom zadrže antigenu moć i izazovu stvaranje specifičen otpor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zročnik, njegov deo ili produkt, ne sme ni pod kakvim uslovima da povrati svoju patogenost, odnosno, toksičnos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 antigenom sastavu vakcina mora da bude što približnija antigenom sastavu odgovarajućeg uzročnika ili toks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istovremenog davanja više injekcionih vakcina, vakcine se daju u različite ekstremit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dve različite mrtve ili jedne mrtve i jedne žive vakci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su potrebn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može bit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a i pasiv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a imuniz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vakcinacijom, odnosno revakcinacij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zaraznih bolesti sprovodi se tokom cele god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se sve dok se ne imunizuju sva lica za koja je propisana imunizacija, osim lica kod kojih su utvrđene trajne kontraindika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k između davanja različitih živih virusnih vakcina, ukoliko se ne daju istovremeno, mora biti najmanj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četiri nedelje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im oralne polio vakcine koja može da se da u bilo kom razmaku ili istovremeno sa drugim živim vakcin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dve doze iste vakci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 smeju biti kraći od preporučeni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alnih intervala između doz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mrtvih vakcina i imunoglobulin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su potrebn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rste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e koje u svom sastavu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aju izazivač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naziv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puskularnim vakcinam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one mogu biti dvojak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. vakcine koje sadrž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rt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zročnike bolesti (mrtve vakc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bakterijske (protiv trbušnog tifusa, pertusisa, kole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virusne (protiv gripa, poliomijelitisa-Salkova vakci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e koje sadrž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atenuisane-oslabljene) žive uzročnike bolesti-ž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bakterijsk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virusne (OP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8305920" cy="16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mogu da budu pripremljene samo od delova uzročnika bolesti, antigena ili grupe antigen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akterijske vakcine–protiv pneumokoka i meningokoka za čije dobijanje se koristi visokoprečošćeni korpuskularni polisaharidni antigeni (polisaharidne vakcin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irusne vakcine-protiv gripa i hepatitisa B koje sadrže samo antige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e na bazi anatoksina (toksoida)-sadrže samo produkte lučenja bakterija: difterični i tetanusni anatoksin ili toksoi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ntraindikac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e se sprovodi imunizacij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je kontraindik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imunizaciju lica protiv te bolest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ONTRAINDIKACIJE ZA DAVANJE VAKC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pšte kontraidikacije za sve vakcinacije s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1. akutne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2. febrilna stan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3. anafilaksa na komponente v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ntraindikacije koje se odnose samo na primenu živih virusnih vakcin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stanja oslabljenog imuniteta (imunodeficitarna stanja usled malignih bolesti, zbog primene velikih doza kortikosteroida, ili zbog radijacij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udnoć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ada je u pitanju vakcinacija protiv tetanusa i besnila nema kontraidikacija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Times New Roman"/>
              </a:rPr>
              <a:t>Po trajanju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kontraindikacije mogu bi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vremene 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traj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aktivnu imunizaciju protiv određenih zaraznih bolesti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kci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izvedene od mrtvih ili živih, ali oslabljenih uzročnika zaraznih bolesti ili njihovih proizvoda i vakcine dobijene na bazi genetske tehnolog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pasivnu imunizaciju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čni imunoglobulini humanog porek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 sprovodi se po indikacij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"Lažne kontraindikacije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nfekcije gornjih respiratornih puteva,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stma, polenska kijavi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nvulzije u porodičnoj anamne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erapija antibioticima, malim doza kortikosteroidaili lokalnih kortikostero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ronična oboljenja jetre, bubrega, pluća, s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rmatoze ili lokalne kožne infekciježutica posle rođe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bilna neurološka oboljenja (cerebralna paraliza) i Daunov sindr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utica posle rođ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donesenost, mala težina u odnosu na uzrast de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ije preležane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Način davanja (aplikacije)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oralno (polimijelit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nazalno (gri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kut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karifikacija (velike bogin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tradermalno (BCG-tuberkuloz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uboko subkutano (DPT,MM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tramuskularno(Hepatitis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se mogu davati jednokratno-samo u jednoj dozi (MM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išekratno (frakcionirano)- kada je za kompletnu vakcinaciju potrebno je dati 2,  3 ili više doza u određenim vremenskim razmacima (DPT-3 doze, poliomijelitis-3 doze, trbušni tifus-2 doz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Revakcin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štački aktivni imunitet koji je storen vakcinacijom, posle odreženog vremena počinje postepeno da opada,a da bi se održeo neophodno je podsticati organizam da stvara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se ranije vakcinisanoj osobi posle određenog vremena, ponovo aplikuje samo jedna doza iste vakcine tada dolazi do brzog i višestrukog povećanja zaštitnih antitela u cirkulac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dnokratno davanje vakcine već vakcinisanoj osobi zove se revakcinacija, a doza vakcine koja se daje zove se stimulišuća doza, rapel ili buster do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  pripremna faza imunizac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I  izođenje imunizacij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II sumiranje rezult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ipremna faza imunizaci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onošenje Programa imunizacije (Ministar, do 15. oktobra tekuće za narednu godinu) 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dređivanje zdravstvene ustanove koja treba da izvede imunizacij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premna faza 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ezbeđivanje  evidencio-okumentacionog materijala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artoni imunizaci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ošenje Plana imunizacije (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tanova koja je određena da sprovodi imunizaciju, do 15. novembra tekuće za narednu godin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o 15. decembra odobrav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vod ili Institut za javno zdravlje)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ezbeđenje finansijskih sredst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abavka vakcine i ostalog materijala potrebnog za r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Formiranje ekip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dravstveno vaspitni r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11:20Z</dcterms:created>
  <dc:creator>Home</dc:creator>
  <dc:description/>
  <dc:language>en-US</dc:language>
  <cp:lastModifiedBy>Korisnik</cp:lastModifiedBy>
  <dcterms:modified xsi:type="dcterms:W3CDTF">2019-10-28T08:20:20Z</dcterms:modified>
  <cp:revision>82</cp:revision>
  <dc:subject/>
  <dc:title>Organizacija obaveznih vakcinacija lica određenog uzrasta  (sistematska vakcinacija)</dc:title>
</cp:coreProperties>
</file>