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B22-1756-4EC6-81CB-EB85DDCD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C7D-5DC7-4521-B234-A8163391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40B-858D-4C16-8835-E6E34A05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55C-CFA0-4C00-B183-41F92447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8AF8-E524-42C2-A3FA-BC90AC58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518D-4EEA-4C2C-A2C2-FBFFB893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502E-41D2-4D63-8440-8EED2A4E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6BE7-B4D0-4E3D-A545-90C4D4B8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C3C2-8563-4193-9663-BD778B7B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F3F4-15CF-4267-90EF-6FE92044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E35C-098A-408F-A43B-2A43180C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0F4-8FE3-4A7A-B779-A46DFCBE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F38C-5042-43B0-B525-4EEC4DF7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5783-95CD-4AE2-A11C-0DA09C32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63DB-2C37-471B-B5A2-4AD50849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23CC-1808-4C65-A0B5-E304F2EA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1AF5-4CF9-45A2-A4F9-51CA3BED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7107B-BD9B-4C27-8E8D-3E1D8747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8A342-5DCA-4EC9-82C6-D7554E08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4B3A7-14EB-4C1D-8647-260ADD1D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C9B2-4C8F-4E57-8104-732C13EC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CB76-703E-4C39-83B1-AF0F3700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A33-95BF-46DD-9C04-63C5C03E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519C6-7EEC-4AE7-A09E-A701BA14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1CD6-C299-40F1-A926-4DCB35F7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0DF1-5E52-49E2-867C-B6249EF3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B2A9D-228B-4066-8415-CF528EB5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6FAC-F58F-4B67-AB1E-6B3D1699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6C23-FAE0-46B9-B3D9-83C0E192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EFDD-E3DC-46AC-BC0C-6A506EB4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01FFC-3F3C-48EE-A6E9-C05E2387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77850-5D34-439A-A27E-209EAA7D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BA4EF-EAC9-46AB-9511-674A8A52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372-D980-46CC-9FA9-808FB07C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D94C4-7981-43F2-98C3-4208DDB8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95F2-54E9-4EE8-864A-362B2552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C5AFF-4EAD-4C8F-879C-B48523B7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C1B90-7B77-450B-81E3-2312E458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967DD-10E7-446D-A085-E6E7B804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FD5D9-0DA4-473D-A65D-BCC6FFB5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37C69-F896-45CE-89C9-DD6ECAAD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40A4E-00EB-4A33-84FD-9F39D526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962A-7269-4852-8C59-3A44B176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BAA-4B78-4455-899A-22C03A48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1D3-FFFC-41DA-94BF-1E3E8E25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1FF-358C-43D8-8E95-A009DDE6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49C-BC77-47C4-B404-CDAC48A2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EC1-C351-4E32-AB11-B743C1BC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2282-D6D7-47A0-B957-3C4D57FAFF8E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A882-A579-492A-BEAF-532106A2A66F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47E5-94CA-4BEE-8528-FB45AEE6FC4E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BA4F-5D54-48D4-AA33-46D1F3A51E1A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000" spc="-1" strike="noStrike">
                <a:solidFill>
                  <a:srgbClr val="ebebeb"/>
                </a:solidFill>
                <a:latin typeface="Times New Roman"/>
              </a:rPr>
              <a:t>SEROPROFILAKSA</a:t>
            </a:r>
            <a:br>
              <a:rPr sz="4000"/>
            </a:br>
            <a:r>
              <a:rPr b="0" lang="sr-Latn-CS" sz="4000" spc="-1" strike="noStrike">
                <a:solidFill>
                  <a:srgbClr val="ebebeb"/>
                </a:solidFill>
                <a:latin typeface="Times New Roman"/>
              </a:rPr>
              <a:t>(Zaštita specifičnim imunoglobulinima)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bog toga, davanje novih količina heterolognog seruma u cilju produženja zaštite nema svrhe, jer se pri tome stvara povećana opasnost od anafilaktičkih pojava, a heterologna antitela će biti brže razgrađena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 eventualnoj ponovnoj aplikaciji seruma, vreme zaštite se smanjuje, pa u pojedinim slučajevima može trajati samo nekoliko dan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</a:rPr>
              <a:t>Humani serum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umi humanog porekla – imunoglobulini (kompletni serumi se danas više ne koriste) dobijaju se iz plazme i seruma odraslih osoba-dobrovoljih davaoca krvi, rekonvalescenata, kao i iz placentarne krvi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z ovih uzoraka izdvajaju s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noglobulini nosioci zaštitnih antitela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koliko preparat sadrži imunoglobuline – antitela protiv više zaraznih bolesti naziva se standardnim ili opštim imunoglobulinom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perimuni specifični imunoglobulin sadrži imunoglobuline – antitela prema određenoj bolesti u visokoj koncentraciji (tetanus, besnilo, hepatitis viroza B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vi preparati se dobijaju iz krvi vakcinisanih lica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Karakteristike p</a:t>
            </a: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asiv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g</a:t>
            </a: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 veštačk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g</a:t>
            </a: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 imunitet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sivna zaštita koja se postiže serumima ili imunoglobulinima nastupa brzo, ali je kratkotrajna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matra se da se animalnim serumima postiže zaštita koja traj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-3 nedel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umani preparati daju nešto dužu zaštitu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4-6 nedelja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Zakon o zaštiti stanovništva od zaraznih bolesti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oje ugrožavaju celu zemlju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z 2016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isuje obeveznu zaštitu specifičnim imunoglobulinom u profilaksi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tanusa, besnila i hepatitisa B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Vrste serum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logi hiperimuni serum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logi imunoglobulin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logi hiperimuni globulin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klonska antite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etrologni hiperimuni serumi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u serumi koji sadrže frakciju krvi koja sadrži antitela protiv jednog uzročnika ili toksi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gu biti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akterijsk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virusn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ksični (besnilo, tetanus, botulizam, zmijski ujed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omologi imunoglobulin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ske frakcije seruma koje se dobijaju mešanjem frakcija antitela klase IgG velikog broja donor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drže antitela protiv svih bolsti koje su prebolela ta lica ili su imunizovan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vu se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ndardni ili opšti serumi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bili, HAV, Rubeo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ziranje: 0,2-0,4mg na kg telesne m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sr-Latn-CS" sz="38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omologi hiperimuni serumi</a:t>
            </a:r>
            <a:br>
              <a:rPr sz="3800"/>
            </a:b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drže visoke titrove specifičnih antitela protiv određenog agensa ili njegovog toksina (tetanus, besnilo, HVB, varičel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ijaju se iz plazme rekonvalescenata ili vakcinisanih osob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zoraju se u IJ na kg telesne mas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TETABULI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um ptotiv tetanus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lučaju tetanogene povrede, pojave prvih simptoma daje se u terapijske svrhe kako bi se sprečila dalja intoksikacija organizm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je od povrede prošlo više od 24 časa propisana doza se udvostručav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avilnik o imunizaciji i načinu zaštite lekovima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iz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17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godine obavezuj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 se za pasivnu imunizaciju upotrebljavaju imunoglobulini humanog porekla (imunoglobulini, hiperimuni gamaglobulini  I monoklonska antitel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Times New Roman"/>
              </a:rPr>
              <a:t>Seroprofilaksa je posebna mera prevencije koja se može koristiti u profilaksi nekog zaraznog oboljenja ali i postekspoziciono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sr-Latn-CS" sz="38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Antirabični serum</a:t>
            </a:r>
            <a:br>
              <a:rPr sz="3800"/>
            </a:b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ne da odmah sa prvom dozom vakcine, indikovano je davanje do 8. dana od ekspozicije jer već od 7. dana počinje sinteza antitela u organizmu čovek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epatitis </a:t>
            </a:r>
            <a:r>
              <a:rPr b="0" lang="en-U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virosa </a:t>
            </a: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B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unuta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/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 časa zajedno sa vakcino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obe koje su imale seksualni kontakt sa osobom koja je zaražena virusom HB, treba da prime serum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jkasnije 14 dana od poslednjeg seksualnog odnosa sa tom osobo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Serum za zaštitu od varičel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enje se može sprečiti ako se unutar 96 sati od kontakt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 seru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kspoziociona zaštita novorođenčadi ili imunodeficijentne dece čije su majke obolele od varičel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um se daje 5 dana pre i 2 dana po rođenju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noklonska antitel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onovi B limfocita koji produkuju samo jednu vrstu antite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obiološki preparati sa apsolutnom standardizacijom i specifičnošću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a u terapiji i prevenciji infekcija respiratornim sincicijalnim viruso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budućnosti će zameniti druge imunobiološke preparat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Seroprofilaksa predstavlja primenu preparata krvi (seruma ili drugih frakcija), koji sadrže antitela stvorena u nekom drugom organizmu (čoveku ili životinji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Na ovaj način nastaje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veštački pasivni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imunitet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Ovaj postupak se koristi u slučajevima kada je potrebno stvoriti brzu zaštitu ugroženih lica, ili kada nema drugih mogućnost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bar i Wiliams su 1953. godine imunoelektroforezom gamaglobulinsku frakciju razdvojili na 3 dela: IgG, IgM i IgA klasu imunoglobuli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s je poznato ukupno 5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klasa (IgE i IgD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 3 klase je dokazano da imaju svojstva zaštitnih antitela (IgG, IgM i IgA)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ziv “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unoglobul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risti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 imunobiološke preparate koji sadrže one proteine krvi koji predstavljaju zaštitna antitela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Veštački pasivni imunite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iže se davanjem gotovih antitela stvorenih u telu druge jedinke, čoveka ili životin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a pasivne zažtite počela je sa radovima nemačkog bakteriologa Emila Beringa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našao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ksin protiv difteri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Karakteristike imunitet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tova antitela obezbeđuju brzu, efikasnu, ali kratkotrajnu zaštitu, jer se brzo razgrađuju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kovana je primena samo u hitnim slučajevi, neposredne opasnosti od infekci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Prevencija antitelim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ekspoziciona primena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da postoji rizik  da će neka osoba biti izložena infekcij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ekspoziciona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mena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da je agens već ušao u organiza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Postekspoziciona zaštit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26560" y="1773000"/>
            <a:ext cx="6712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ivna imunizacija- davanje samo seruma, bez davanja vakcin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juje s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lučaju da visok titar gotovih antitela ometa sintezu sopstvenih antite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vim slučajevima kada vakcina ne postoji, ili je kontraindikovano davanje (trudnoća, laktacija, imunodeficijencija,imunosupresivna terapija)</a:t>
            </a:r>
            <a:r>
              <a:rPr b="0" lang="sr-Latn-CS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raksi se najčešće primenjuje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iv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-p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iv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avanje vakcine i serum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vremeno u suprotne ekstremite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to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štitu povređene osobe od tetanusa, besnila, hepatitisa B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Animalni serumi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rumi animalnog porekla (heterologni) dobijaju se imunizovanjem životinja (najčešće konja) iz čijeg seruma se spravljaju preparati za primenu u humanoj medicini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Život heterolognih antitela je kraći </a:t>
            </a:r>
            <a:r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(2-4 nedelja)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d homolognih</a:t>
            </a:r>
            <a:r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 (4-6 nedelja)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iz razloga što se 8 do 10 dana po ubrizgavanju stvaraju antitela na strane belančevine, što dovodi do brzog razgrađivanja unetih heterolognih antitela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1:31:58Z</dcterms:created>
  <dc:creator>Intel</dc:creator>
  <dc:description/>
  <dc:language>en-US</dc:language>
  <cp:lastModifiedBy>Natasa Rancic</cp:lastModifiedBy>
  <dcterms:modified xsi:type="dcterms:W3CDTF">2019-06-05T06:42:32Z</dcterms:modified>
  <cp:revision>28</cp:revision>
  <dc:subject/>
  <dc:title>SEROPROFILAKSA (Zaštita specifičnim imunoglobulinim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