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424-823C-48B8-BE4C-3D1F42CF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AE7-2C41-492D-A636-E4574BA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12B-9B6E-45A6-8545-E30D9891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CB0-D19C-4512-B52F-A80E926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48577-0CE7-466E-AE19-B595D01E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5FEC-C121-4365-95FE-675082A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D63F-97B5-4CAF-8764-0FC0F635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2D388-19A0-40A6-8110-5D45A28E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3D992-10C6-484A-ABDF-A345B8F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67B3-F69E-4A82-AE50-5BF54C23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F62B-91BD-4E2F-A86F-0327423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BBB-990F-4130-9BDB-C6C70AF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DF6D-F88E-4CFC-B10F-0802259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2BC98-01A3-4814-B150-67717B0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7844-D3BC-4C35-958A-EEE1ACC9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A59B1-2792-41EA-A101-A930E3A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EB127-F158-44C8-8790-7FD7880A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A85-61F9-4DA2-9C07-A361D8F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37C-EDEA-4C9E-9A40-E70ED6D6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B36-62FD-47CC-A6B7-33014CD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425-0CD6-45C6-A570-52EB896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596-5883-44DC-9711-168B586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8B6-A1BD-4AF5-9CA9-8057EFC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D2C-0BA7-42F3-BD83-55CB891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E5C-CB27-43F9-A784-F1B434C2019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08DF-CA5A-41FD-9EBB-802A951D3A53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MERE 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PROFILAKS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E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 ZARAZ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pšte mere mere organizuju i sprovode nadlezni organi i druga pravna lica, kao i nadležne zdravstvene ustanove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Staranje o izvršavanju opštih mera je u domenu sanitarnih inspektorat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Opšte profilaktičke mere kod nekih bolesti predstavljaju radikalne mere npr. kod crevn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Arial"/>
                <a:ea typeface="Tahoma"/>
              </a:rPr>
              <a:t>POSEBNE MERE</a:t>
            </a:r>
            <a:br>
              <a:rPr sz="3200"/>
            </a:br>
            <a:br>
              <a:rPr sz="32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. rano otkrivanje izvora, rezervoara i puteva prenošenja zaraze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2. epidemiološko ispitivanje i istraživanje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laboratorijsko ispitivanje radi utvrđivanja uzročnika zarazne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postavljanje dijagnoze zarazne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prijavljivanje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prevoz , izolacija i lečenje;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7. zd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vstveni nadzor i karantin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8. imunizacija i hemioprofilaks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9. dezinfekcija, dezisekcija i deratizacija po epidemiološkim indikacijam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0. zdravstveni pregledi određenih kategorija zaposlenih lica u objektima pod sanitarnim nadzorom, kao i određenih kategorija stanovništva radi utvrđivanja nosilaštva uzročnika zaraznih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1. zdravstveno vaspitanje i obrazovanje određenih kategorija zaposlenih lic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2. informisanje zdravstvenih radnika i stanovništva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Rano otkrivanje izvora, rezervoara i puteva prenošenja zaraznih bolesti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Sprovodi se epidemiološkim ispitivanjem, u skladu sa definicijama slučaja i stručno-metodološkim upustvima i aktivnim pronalaženjem tipičnih i atipičnih slučajeva i osoba pod rizikom, kao i laboratorijskim ispitivanjem uzoraka vode, hrane, vektora i drugih uzoraka iz životne sredine, a u cilju prenošenja bolesti na osetljive osobe i suzbijanja zarazne bolest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Epidemiološko ispitivanje i istraživanje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00"/>
                </a:solidFill>
                <a:latin typeface="Arial"/>
                <a:ea typeface="Tahoma"/>
              </a:rPr>
              <a:t>Epidemiološko ispitivanj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sprovodi se radi utvrđivanja faktora koji su doprineli nastanku zarazne bolesti i/ili prenošenju, kao i radi otkrivanja epidemije zarazne bolesti, utvrđivanja uzročnika zarazne bolesti, a cilju sprečavanja i suzbijanja tih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cc00"/>
                </a:solidFill>
                <a:latin typeface="Arial"/>
                <a:ea typeface="Tahoma"/>
              </a:rPr>
              <a:t>Epidemiološko istraživanj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sprovodi se sa ciljem da se ustanove rezervoar, odnosno izvor i put prenošenja zaraznih bolesti, kao i faktori koji su doprineli nastan ku i širenju epidemije, da se predlože adekvatne prtivepidemijske mere i da se prati njihovo sprovođenj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Laboratorijsko ispitivanje radi utvrđivanja uzročnika zaraznih bolesti 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Laboratorijsko ispitivanje radi utvrđivanja uzročnika, tipizacije uzročnika ili specifičnog odgovora organizma na prisustvo uzročnika zaraznih bolesti, sprovodi se u svim slučajevima ili sumnje na pojavu zaraznih bolesti, kao u slučaju pojave epidemije, u kojima je utvrđivanje uzročnika i tipizacije uzročnika zarazne bolesti neophodno za postavljanje dijagnoze.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Postavljanje dijagnoze zarazne bolesti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Postavljanje dijagnoze zarazne bolesti sprovodi se u skladu sa kliničkim, laboratorijskim i epidemiološkim kriterijumi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Prijavljivanje</a:t>
            </a:r>
            <a:br>
              <a:rPr sz="2800"/>
            </a:br>
            <a:br>
              <a:rPr sz="28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Obaveznom prijavljivanju, podleže:</a:t>
            </a:r>
            <a:br>
              <a:rPr sz="2400"/>
            </a:br>
            <a:br>
              <a:rPr sz="24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) svako oboljenje ili smrt od zarazne bolesti iz člana 5. ovog zakona u skladu sa definicijom slučaj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) sumnja na obolevanje od kolere, kuge, velikih boginja, žute groznice, virusne hemoragijske groznice, SARS-a, poliomijelitisa, difterije, malih boginja, botulizma, kao i pojave nepoznate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) epidemija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4) izlučivanje uzočnika trbušnog tifusa, paratifusa, drugih salmoneloza, šigeloza, jersinioza, kampilobakterioza kao i nosilaštvo antigena virusnog hepatitisa B, prisustvo antitela na virusni hepatitis C, antitela na HIV, kao i nosilaštvo parazita – uzročnika malarije;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5) Svaki neuobičajeni događaj koji može ukazivati na zloupotrebu biološkog agensa ili epidemije  izazvane nepoznatim uzročnik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6) svaka sumnja na pojavu zarazne bolesti koja odgovara definiciji opasnosti po zdravlje od međunarodnog značenja, prema MZP i SZO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7) mogućnost infekcije virusom besnil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8) akutna flakcidna parazliz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9) laboratorijski utvrđen uzročnik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0) infekcija povezana sa zdravstvenom zaštitom (bolnička infekcija)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1) rezistencija uzročnika zarazne bolesti na antimikrobne lekove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2) neželjena reakcija posle imunizacije.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Prijavljivanje vrše zdravstvene ustanove, druga pravna lica koja mogu obavljati i zdravstvenu delatnost u skladu sa zakonom, privatna praksa i zdravstveni radnici na propisnom obrtascu, u skladu sa ovim zakon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Zdravstveni nadzor i karanti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Lica koja dolaze iz zemalja u kojima ima kolere, kuge, velikih boginja, žute groznice, virusnih hemoragijskih groznica (izuzev hemoragijske groznice sa bubrežnim sindromom), malarije i/ili drugih oboljenja koja predstavljaju pretnju po međunarodno javno zdravlje ili postoji epidemija i rizik od oboljenja od zaraznih bolesti koje se mogu uneti u zemlju i lica sa ili bez zdravstvenih tegoba dužna su da se na graničnom prelazu prijave nadležnoj zdravstvenoj službi, odnosno organima nadležnim za kontrolu prelaženja državne granice kao i da se u mestu boravka jave nadležnom zavodu, odnosno institutu za javno zdravlj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52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ere profilak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mogu da budu: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I  Opšte mere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II  Specifične m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ffc000"/>
                </a:solidFill>
                <a:latin typeface="Arial"/>
                <a:ea typeface="Tahoma"/>
              </a:rPr>
              <a:t>Karantin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je mera kojom se ograničava sloboda kretanja i utvrđuju obavezni zdravstveni pregledi zdravim licima koja su bila ili za koja postoji sumnja da su bila u kontaktu sa licima obolelim od zaraznih bolesti ili sa licem za koje  postoji sumnja da je obolelo od zarazne bolesti navedene u Zakonu (Lica obolela ili za koja postoji sumnja da boluju od kuge, velikih boginja i virusnih hemoragijskih groznica (izuzev hemoragijske groznice sa bubrežnim sindromom), SARS-a, kao i lica za koja postoji sumnja da boluju od zarazne bolesti nepoznate etiologije, izoluju se i leče u zdravstvenim ustanovama za bolničko lečenje lica obolelih od zaraznih bolesti), tokom perioda zaraznosti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Imunizacija i hemioprofilaksa</a:t>
            </a:r>
            <a:br>
              <a:rPr sz="2800"/>
            </a:b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Imunizacija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je obavezna za: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. lica određenog uzrasta protiv tuberkuloze, difterije, tetanusa, velikog kašlja, dečije paralize, malih boginja, rubele, zaušaka, virusnog hepatitisa B, oboljenja izazvanih hemofilusom influence tipa B; i oboljenja izazvanih streptokokom pneumonije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. lica izložena određenim zaraznim bolestima: hepatitisu B, hepatitisu A, trbušnom tifusu, besnilu i tetanusu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. lica u posebnom riziku od bolesti: hepatitisa B, gripa, meningokokne bolesti, oboljenja izazvanih streptokokom pneumonije i hemofilusom influence B, varičele, infekcije izazvane respiratornim sincicijalnim virus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4. lica zaposlena u zdravstvenim ustanovama protiv određenih zaraznih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5. putnike u međunarodnom saobraćaju protiv žute groznice i drugih zaraznih bolesti po zahtevu zemlje u koju se putuje.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Preporučena imunizacija je imunizacija koju doktor medicine ili specijalista odgovarajuće grane medicine preporučuje, u skladu sa programom imunizacije stanovništva protiv određenih zaraznih bolesti: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. za lica određenog uzrasta protiv varičele, HPV infekcija, hepatitisa A i B, gripa i oboljenja izazvanih streptokokom pneumonije i drugih u sladu sa Zakon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. po kliničkim indikacijama protiv hepatitisa A i B, gripa, oboljenja izazvanih streptokokom pneumonije i drugih u skladu sa zakon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. putnika u međunarodnom saobraćaju protiv trbušnog tifusa, hepatitisa A i B, gripa, dečije paralize i drugih u skladu sa Zakonom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Imunizacija se može sprovoditi i za druge zarazne bolesti koju doktor medicine ili specijalista odgovarajuće grane medicine nije dužan da prepporuči ili koja se traži na lični zahtev pacijenta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br>
              <a:rPr sz="28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Imunizacija specifičnim imunoglobulinima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obavezna je za lica kojima je, po epidemiološkim indikacijama, potrebna postekspoziciona zaštita protiv tetanusa, besnila, hepatitisa B, kao i u slučaju druge bolesti 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(difterija, infekcije uzrokovane hemofilusom influence grupe B, Influenca/grip uključujući influencu A (H1N1), morbili/male boginje, ...)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kao i nove bolesti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Zaštita lekovima (hemioprofilaksa)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sprovodi se kod lica koja su izložena zaražavanju od tuberkuloze, malarije, meningokokne bolesti i HIV infekcije, a po epidemiološkim indikacijama i kod lica koja su izložena drugim zaraznim bolestima, u skladu sa Zakonom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Zaštitu lekovima organizuju i sprovode nadležne zdravstvene ustanove i zdravstveni radnici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  <a:ea typeface="Tahoma"/>
              </a:rPr>
              <a:t>Dezinfekcija, dezinsekcija i deratizacija po epidemiološkim indikacijama </a:t>
            </a:r>
            <a:br>
              <a:rPr sz="2800"/>
            </a:br>
            <a:r>
              <a:rPr b="1" lang="sr-Latn-CS" sz="2800" spc="-1" strike="noStrike">
                <a:solidFill>
                  <a:srgbClr val="ffcc00"/>
                </a:solidFill>
                <a:latin typeface="Arial"/>
                <a:ea typeface="Tahoma"/>
              </a:rPr>
              <a:t> </a:t>
            </a:r>
            <a:br>
              <a:rPr sz="28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Dezinfek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se svakodnevo sprovodi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pranje ruku i održavanje lične higijen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vode za pić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pasterizacija mleka i drugih prehrambenih proizvod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i sterilizacija medicinskih instrumenata i materijala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u zdravstvenim ustanovama, dečjim kolektivima, javnim objektim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u sredstvima javnog prevoz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va mera se svakodnevno sprovodi u periodu pre pojave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provodi se istim merama i tehničkim postupcima kao i pri izvođenju dezinfekcije u protivepidemijske svrhe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Dezinsekci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je mera kojom se uništavaju prenosioci (vektori) uzročnika zaraznih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provodi se u sezoni najveće gustine i najviše biološke aktivnosti vektor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va mera se sprovodi u objektima za proizvodnju  promet životnih namirnica, zdravstvenim ustanovama, predškolskim i školskim objektima, javnim površinama i 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Deratizacija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se sprovodi u cilju uništavanja pacova i drugih glodara kao prenosioca uzročnika određenih zaraznih bolesti (salmoneloze, leptospiroze, tularemija i 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cc00"/>
                </a:solidFill>
                <a:latin typeface="Arial"/>
                <a:ea typeface="Tahoma"/>
              </a:rPr>
              <a:t>Zdravstveni pregledi određenih kategorija zaposlenih lica u  objektima pod sanitarnim nadzorom, kao i određenih kategorija stanovništva radi utvrđivanja nosilaštva uzročnika zaraznih bolesti</a:t>
            </a:r>
            <a:br>
              <a:rPr sz="2600"/>
            </a:br>
            <a:br>
              <a:rPr sz="1400"/>
            </a:br>
            <a:r>
              <a:rPr b="0" lang="sr-Latn-CS" sz="2200" spc="-1" strike="noStrike">
                <a:solidFill>
                  <a:srgbClr val="ffffff"/>
                </a:solidFill>
                <a:latin typeface="Tahoma"/>
                <a:ea typeface="Tahoma"/>
              </a:rPr>
              <a:t>Obaveznom zdravstvenom pregledu  podležu:</a:t>
            </a:r>
            <a:br>
              <a:rPr sz="2200"/>
            </a:br>
            <a:br>
              <a:rPr sz="1200"/>
            </a:br>
            <a:r>
              <a:rPr b="0" lang="sr-Latn-CS" sz="22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zaposleni na poslovima javnog snabdevanja stanovništva vodom za piće, proizvodnje, prometa i usluživanja hrane, izuzev lica zaposlenih u proizvodnji žestokih alkoholnih pića, vina, sirćeta i sirćetne kiseline, kao i lica zaposlenih u objektima za prome hrane u kojima se vrši promet isključivo originalno zapakovanom hranom;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2.</a:t>
            </a:r>
            <a:r>
              <a:rPr b="0" lang="sr-Latn-CS" sz="2200" spc="-1" strike="noStrike">
                <a:solidFill>
                  <a:srgbClr val="ffcc00"/>
                </a:solidFill>
                <a:latin typeface="Arial"/>
                <a:ea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zaposleni na poslovima ishrane, nege i održavanja higijene u predškolskim ustanovama, ustanovama za kolektivni smeštaj dece i omladine i ustanovama socijalne zaštite za smeštaj određenih kategorija lica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zaposleni u zdravstvenim ustanovama i privatnoj praksi koj pružaju usluge zdravstvene zaštite na odeljenjima sa povećanim rizikom od zaraznih bolesti, i to: na poslovima dijagnostike, lečenja, nege, ishrane bolesnika i poslovima održavanja higijen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zaposleni na poslovima proizvodnje, prometa i izdavanja lekova i medicinskih  sredstava, odnosno koji na drugi način dolaze u neposredan kontakt sa lekovima i medicinskim sredstvim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zaposleni na poslovima pružanja usluge higijenske nege i ulepšavanja lica i tela, poslovima pružanja nemedicinskih estetskih intervencija kojima se narušava integritet koće, kao i zaposleni na poslovima proizvodnje kozmetičkih sredstav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lica koja u toku školovanja obavljaju obaveznu praksu na poslovima utvrđenim u tačkama od 1 do 5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69948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Efekat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- radikaln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- palijativ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poslovima utvrđenim u stavu 1. tač. Od 1 do 5. ovog člana, ne mogu se zapošljavati, odnosno ne mogu obavljati delatnost ili obaveznu praksu lica koja nisu podvrgnuta obaveznom zdravstvenom pregledu.</a:t>
            </a:r>
            <a:br>
              <a:rPr sz="2400"/>
            </a:br>
            <a:br>
              <a:rPr sz="12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Na poslovima utvrđenim u stavu 1.tač. Od 1 do 5. ovog člana, ne mogu se zapošljavati odnosno ne mogu obavljati delatnost ili obaveznu praksu lica obolela od određnih zaraznih bolesti, kao ni lica koja su nosioci određenih mikroorganizama i parazita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Meru obaveznih zdravstvenih pregleda određenih kategorija zaposlenih, drugih lica i kliconoša, organizuje i sprovodi nadležni zavod, odnosno institut za javno zdravlje na teritoriji za koju je osnovan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stvene ustanove, pravatna praksa, druga pravna lica, preduzetnici i fizička lica koja obavljaju delatnost izs tava 1. tačka od 1 do 6, dužni su da obezbede vršenje obaveznih zdravstvenih pregleda određenih kategorija svojih zaposlenih u rokovima i na način propisan Zakonom i snose troškove tih pregleda,  kao i da u poslovnim prostorijama objekta u kojima se obavlja delatnost čuvaju sanitarne knjižice, kao dokaz o obavljenom zdravstvenom pregledu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  <a:ea typeface="Tahoma"/>
              </a:rPr>
              <a:t>Obaveznom zdravstvneom pregledu radi utvrđivanja nosilaštva uzročnika zaraznih bolesti podlež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. davaoci krvi, ćelija, tkiva, organa ili delova organa koji se presađuju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2. trudnic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osobe na lečenju hemodijalizom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lica koja su bila akcidentalno izložena dokazano infektivnom ili potencijalno infektivnom materijalu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odojčad ili deca koja su tokom trudnoće, rađanja ili po rođenju bila izložena HIV infekciji ili virusnoj hepatitis C infekciji, kao i odojčad ili deca sa sumnjom na kongenitalni sifilis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novorođenčad/odojčad rođena od majki sa sumnjom na infekciju virusom rubele ili potvrđenom infekcijom virusom rubele u trudnoći, odnosno ona sa sumnjom na kongenitalni rubela sindrom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7. lica na izdržavanju kazne zatvora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8. lica smeštena u socijalne ustanove u kojima se obavlja i zdravstvena delatnost, kao i lica smeštena u đačke i studentske  domove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9. lica koja traže azil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10. lica koja su na programima inseminacije ili veštačke oplodnje, u skladu sa zakonom kojim se uređuje biološki potpomognuta oplodnj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11. zdravstveni radnici koji su eksponirani HBV virusu na HBsAg ili anti HBs u zavisnosti od toga da li su vakcinisani protiv hepatitisa 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76560" y="135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568440"/>
            <a:ext cx="81356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Preporučenom zdravstvenom pregledu, radi utvrđivanja nosilaštva uzročnika zaraznih bolesti podlež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dni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Žrtve seksualnog napada ili zlostavljanj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sa dijagnostikovanom aktivnom tuberkulozo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sa klinički manifestnim znacima ili simptomima koji ukazuju na oslabljen imunološki siste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koja su bila potencijalno, nenasilno izložena infekcija koja se prenosi parenteralnim ili seksualnim pu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799164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avezni ili preporučeni  zdravstveni pregledi radi utvrđivanja nosilaštva uzročnika zaraznih bolesti mogu biti propisani i za druge kategorije stanovništva prema epidemiološkim indikacijama i u skladu sa preporukama SZO i drugih međunarodnih organizaci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ru obaveznog i preporučenog zdravstvenog pregleda za određene kategorije stanovništva iz stava 1. organizuju i sprovode nadležne zdravstvene ustanove, u skladu sa zakon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star određuje zarazne bolesti i nosilaštvo određenih mikroorganizama i specifičnih antitela, propisuje vrste obaveznih i preporučenih zdravstvenih pregleda kojima podležu lic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z čl. 45. i 46. ovog zakon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kao i uslove, rokove i način sprovođenja tih pregleda i izveštavan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620640"/>
            <a:ext cx="684036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Zdravstveno vaspitanje i obrazovanje određenih kategorija zaposlen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dravstvene ustanove, pravna lica koja obavljaju i zdravstvenu delatnost, privatna praksa i zdravstveni radnici dužni su da kroz promociju zdravlja obolela lica i druga lica iz njihove neposredne okoline pouče o načinu zaštite od zarazne boles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197000"/>
            <a:ext cx="684036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formisanje zdravstvenih radnika i stanovni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vodi, odnosno instituti za javno zdravlje obavezni su da informišu zdravstvene radnike i stanovništvo o razlozima i načinu sprovođenja posebnih mera za suzbijanje i sprečavanje zaraznih bolesti, a posebno u slučajevima kada je potrebna saradnja zdravstvenih radnika i stanovništva u sprovođenju posebnih mera za suzbijanje i sprečavanje zaraznih boles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620640"/>
            <a:ext cx="68403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ruge mere za zaštitu stanovništva od zaraznih bolesti i način njihovog sprovođ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evencija i suzubijanje infekcija povezanih sa zdravstvenom zaštitom (bolnička infek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dravstvene ustanove, privatna praksa, socijalne  ustanove u kojima se obavlja i zdravstvena delatnost i druga pravna lica koja mogu obavljati i zdravstvenu delatnost dužne su da sprovode stručne, organizacione i druge propisane mere radi sprečavanja pojave, kao i radi ranog otkrivanja i suzbijanja bolničkih infekcija unutar ustano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620640"/>
            <a:ext cx="6840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Higijensko postupanje prilikom pružanja usluga higijenske nege i ulepšavanja lica i tela, kao i nemedicinskih estetskih intervencija kojima se narušava integritet 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vna  lica i preduzetnici koji obavljaju delatnost pružanja usluga higijenske nege i ulepšavanja lica i tela, kao i nemedicinskih estetskih intervencija kojima se narušava integritet kože, dužni su da svoje usluge pružaju pod uslovima i na način kojim se sprečava pojava i prenošenje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0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Radikalne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su mere trajnog karaktera, koje rešavaju problem zaraznih bolesti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imer: u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borbi protiv variole vakcinoprofilaksom je bolest iskorenj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Obezbeđenje stanovništva ispravnom vodom za piće, kao i higijensko otklanjanje otpadnih materija, održavanje lične higijene itd, predstavljaju radikalne mere u borbi protiv mnogih crevnih zaraznih bolesti.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883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Palijativne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su ograničenog trajanja, odnosno traju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o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noliko dugo koliko se profilaksa i sprovodi (ili nešto duže).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Na primer u borbi protiv trbušnog tifusa vakcinacija je palijativna m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600"/>
            </a:b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OPŠTE MERE</a:t>
            </a:r>
            <a:br>
              <a:rPr sz="3600"/>
            </a:br>
            <a:br>
              <a:rPr sz="3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za zaštitu stanovništva od zaraznih bolesti predstavljaju prvenstveno sanitarno-higijenske mere.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adi se o komunalnim merama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obezbeđenje zdravstveno ispravne vode za pić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putem objekata za javno snabdevanje vodom za piće, vode za sanitarno-higijenske i rekreativne potrebe, kao i sanitarne zaštite izvorišt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obezbeđivanje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zdravstveno bezbedne hrane, predmeta koji dolaze u dodir s hranom i predmeta opšte upotrebe, kao i sanitarno-higijenskih uslova za njihovu proizvodnju i promet; 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- obezbeđivanje zdravstvene ispravnosti kupališnih, bazenskih voda, javnih česmi i izvora i drugih vodas od javno zdravstvenog interesa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obezbeđivanje sanitarno-tehničkih i higijenskih uslova u objektima pod sanitarnim nadzorom i drugim objektima u kojima se obavlja društvena, odnosno javna delatnost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-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uklanjanje ljudskih i životinjskih izlučevina, leševa, organa i tkiva, otpadnih voda na način da ne ugrožavaju zdravlje stanovništva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- sprovođenje DDD u naseljenim mestima, na javnim površinama i u dr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u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gim objekt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- sprovođenje preventivne dezinfekcije, dezinsekcije i deratizacije u naseljenim mestima, na javnim površinama, u stambenim objektima, u sredtvima javnog saobraćaja, u objektima pod sanitarnim nadzorom i njihovoj neposrednoj okolini i u drugim objetima u kojima se obavlja društvena, odnosno javna delatnost;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uklanjanje ljudskih i životinjskih izlučevina, leševa, organa i tkiva, otpadnih voda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i drugih otpadnih materija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 način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i pod uslovima koji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ne ugrožavaju zdravlje stanovništv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, izvorišta vode za piće i životnu sredinu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Korisnik</cp:lastModifiedBy>
  <dcterms:modified xsi:type="dcterms:W3CDTF">2018-12-20T09:04:18Z</dcterms:modified>
  <cp:revision>100</cp:revision>
  <dc:subject/>
  <dc:title>PROFILAKSA ZARAZNIH BOLESTI</dc:title>
</cp:coreProperties>
</file>