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1E0-0CCB-4F10-9EB3-87CC136C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3EF8-4117-406C-9FD2-DD382FEB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B58-6295-4BDB-BD4F-95E7A9ED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805-99A4-4BB4-8FE6-3EADBB7A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05DB4-BCF2-4804-AF5D-EB713590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15D96-9F4E-45CD-B718-92EB6846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13E08-D6FD-4C7B-B1D9-3E1BBFAD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87677-96BC-4BB9-8DC9-9AF98A8E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22EB6-D508-4818-AE38-41CD6024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073AC-1B36-4930-815D-C7ECEE96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56A79-51B6-457F-89BD-B9ECB510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1E0-2E22-43FE-9484-A4FD92C7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13F9A-8E56-4720-8FB8-9F91D0DD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F0658-3941-4F12-97F7-060FAED6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2F8E6-1E7B-4A2D-97D1-FBD304F6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FAE2A-DDD4-4823-BAC9-6DEDB670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D1DE7-8EED-4328-9054-D32222FF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7A0-EE6C-4A50-A20B-A068A9CD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5F7-B115-4F39-B856-C714302E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72C-9307-4901-8CF2-EFCD58E9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E34-2B33-4E2F-B66E-F1284141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49FE-E558-48D9-AE97-1764C67F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DC9-8727-4EEB-875A-FD2CCB2A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541-991E-438D-B132-09BBC177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272D-5DEC-4564-9C96-9E54769E7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BCB9-1FE1-4610-8491-22BCF00FF0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EPIDEMIOLOŠKA ANKE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t. dr s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med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Nataša Ranči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Alternativne tvrdn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Lista ima niz odgovora, ali samo je jedan tač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 je predložio upotrebu kondoma pri poslednjem Vašem seksualnom odnosu sa vašim regularnim partnerom (suprug ili osoba sa kojom živite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ja sam predloži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moj part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dluka je zajedni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e zn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Merne skale (rangiraju odgovore prema intenzitet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U toku poslednjih mesec dana koliko često ste i.v. koristili drogu?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amo jednom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2-3 puta (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jednom nedeljno (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2-3 puta nedeljno (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TRUKTURISAN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: sadrži određen broj ranije utvrđenih pitan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NESTRUKTURISAN: nema unapred formulisana pitanja (ima primenu u kliničkoj praks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POLUSTRUKTURISAN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: delimično strukturisan, sem formulisanih pitanja ima i pitanja koja nisu unapred određ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Times New Roman"/>
              </a:rPr>
              <a:t>NAČIN PRIMENE UPTNIK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Interv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amostalno popunjav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ilotska stud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Times New Roman"/>
              </a:rPr>
              <a:t>Šta je epidemiološka anket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napred formulisana grupa pitanja koja se koriste u prikupljanju podata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obijaju se značajni podaci za ispitivanje određenog zdravstvenog probl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tkrivanje izvora zaraze i puteva prenošenja u epidemij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dentifikacija mesta i načina izlaganja zarazi ili otkrivanja uzroka, odnosno faktora rizi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Times New Roman"/>
              </a:rPr>
              <a:t>Kreiranje anke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lasična anketa (upitni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lektronski-odgovori su kodirani i spremni za analizu (EPIINF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nketa mora da sadrži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Neophodan broj pit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manjivanjem broja pitanja-sužavanjem ankete mogu da se izgube ključne inform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eliki broj pitanja-opširne (teže se prihvataj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Kakva treba da budu pitanj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ednostavna, jasna, razumlji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zbor pitanja zavisi od predmeta istraživanja, a sadržaj se određuje na osnovu cilja istraživan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vaki upitnik ima nekoliko celin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Opšti podaci: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me i prezime, adresa, matični bro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Demografski poda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Podaci o obolevanaj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Podaci o izlože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Lična i porodična anamne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Ostali poda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3300"/>
                </a:solidFill>
                <a:latin typeface="Times New Roman"/>
              </a:rPr>
              <a:t>TIPOVI ANKETE/UPITNIK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Otvoreni tip pitanj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Zatvoreni tip pitanj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Otvoreni tip pitan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ema ponuđene odgov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risti se pri ispitivanju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edovoljno poznate poja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ada postoje razlike u pojedinačnim iskustvi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d odgovaranja na teža i delikatna pitan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ada treba utvrditi kako ispitanici percipiraju neku pojav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rimer: Šta ste jeli tokom jučerašnjeg dan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Zatvoreni tip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adrži određen broj ponuđenih odgovora za koje se ispitanik opredelju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ihotomna: ponuđena su samo dva odgovora, modaliteta (DA/NE)ili (Tačno/Netačn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Multipla: ponuđeno je više mogućih odgovora (višestruki izbor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da, ne, ni malo;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uvek, ponekad, nikada;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da, ne, ne zn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Lista provere ili kontrolna l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Ima pitanje i niz ponuđenih odgov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Da li ste u toku svadbenog veselja jeli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rusku sal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tort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”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Puslic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lanu tortu sa majonez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lado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1:00:42Z</dcterms:created>
  <dc:creator>Intel</dc:creator>
  <dc:description/>
  <dc:language>en-US</dc:language>
  <cp:lastModifiedBy>parazitologija1n</cp:lastModifiedBy>
  <dcterms:modified xsi:type="dcterms:W3CDTF">2014-06-23T08:08:47Z</dcterms:modified>
  <cp:revision>8</cp:revision>
  <dc:subject/>
  <dc:title>EPIDEMIOLOŠKI UPIT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