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B8A-ABD4-4D25-BFBF-BDCA47E8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32B-5EDC-493D-B315-C8FE40EB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7B0-EE51-4579-A2DA-8D872D1B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345-7981-472B-9F13-4EEE46F5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8089A-B832-4EF3-BD3C-158C07D7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FE53C-43E9-4F12-8A3E-AEC864AE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928ED-DAB8-4A5C-B1A7-AFDDB39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19E31-707A-4925-B2EE-548CCCF7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3CB7D-8488-446A-A257-0368F32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D66A3-23F0-49BE-99DF-2B14020C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FD7C8-8ACC-4FD1-B7F1-3818B43C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307-D87A-4D09-B9D8-5A19E796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A3E54-9384-4D69-A429-4BAB9AF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11DB0-C69A-4E3E-9629-3B0E8327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DCB8D-86F0-4D47-98DB-452BB77F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79BA5-7A2D-4842-9797-0FE476D5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AB2D1-B9E2-4CA0-ACD1-38567B40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544-1F72-486C-9449-B9F3ABDA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1E8-1FBB-4DDF-961F-5B7A7B7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D29-1FF7-4E61-BFE9-0D1C937B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5B9-00C6-46E1-9590-BDE84C09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80F-2373-4352-B8BD-C35C26B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3F8-D7CE-4C82-A3BC-1EC32663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667-3CA8-4F5B-8E46-9ED7E5C3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F379-3392-4AFA-863E-A37EE0A0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B2E6-0CF4-48BB-B9F6-9F8C3B166C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n</a:t>
            </a:r>
            <a:r>
              <a:rPr b="1" lang="sr-Latn-R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ktivn</a:t>
            </a:r>
            <a:r>
              <a:rPr b="1" lang="sr-Latn-R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 pasivn</a:t>
            </a:r>
            <a:r>
              <a:rPr b="1" lang="sr-Latn-R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munizacij</a:t>
            </a:r>
            <a:r>
              <a:rPr b="1" lang="sr-Latn-R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ica izloženih određenim zaraznim bolesti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ške indikacije za aktivnu imunizaciju protiv virusnog hepatitisa 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ni partneri HbsAg pozitivnih lic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tićenici ustanova socijalne zašti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venski narkoman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ćni kontakti sa HbsAg pozitivnim lic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u ustanovama za izvršenje kaznenih sankc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eli od hemofil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eli od insulin zavisnog dijabetes melit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jenti na hemodijali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radnic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ivna imunizacija sprovodi se sa 3 doze po šemi 0,1,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 pasivna imunizacij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iv besni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munizacija protiv besnila sprovodi se savremenim inaktivisanim vakcinama protiv besnila za humanu upotrebu, proizvedenim na kulturi ćelija koje preporučuje SZO, sa potencijom od najmanje 2.5 I.J. po pojedinačnoj doz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sivna imunizacija protiv besnila sprovodi se primenom humanog antirabičkog imunoglobuli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Preekspoziciona vakcinac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iv besnila sprovodi se kod lica koja su profesionalno izložena infekciji virusom besnila, i to: laboratorijski radnici koji su neposredno izloženi virusu besnila, veterinari, veterinarski tehničari, veterinarski higijeničari, zoohigijeničari, lovočuvari, šumari i preparatori životinja, krznari (lica koja odvajaju krzno sa leševa životinja i pripremaju ga za dalju upotrebu) i lica koja profesionalno dolaze u kontakt sa slepim mišev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kspoziciona vakcinacija protiv besnila sprovodi se davanjem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r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jedinačne doze vakcine protiv besnila u deltoidni mišić, naizmenično u naspramnu ruku, po šemi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0, 7. i 21 dan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Postekspozicio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ezna imunizacija protiv besnila sprovodi se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la ili na drugi način ozledila besna ili na besnilo sumnjiva divlja ili domaća životinj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ao pas ili mačka nepoznatog vlasnika, koji se ne mogu držati pod desetodnevnim veterinarskim nadzor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ao pas ili mačka koji u toku deset dana od dana ozlede pokažu znake besnila, uginu, budu ubijeni ili odlutaju, a besnilo životinje se ne može isključiti laboratorijskim pregled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 koje se moglo zaraziti virusom besnila preko služokože ili oštećene kož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unizacija protiv besnila sprovodi se odmah po utvrđivanju indikacije, davanjem četiri doze vakcine protiv besnila u deltoidni mišić a kod male dece u anterolateralni deo natkolenice, intramuskularno, naizmenično u suprotni ekstremitet, po šem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, 3 7 i 1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tovremeno sa davanjem prve doze vakcine protiv besnila, u svim slučajevima, daje se jednokratno i humani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ntirabijsk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unoglobulin (u daljem tekstu: HRIG) u dozi od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20 I.J. na kilogra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sne m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se infiltruje u ranu i oko rane, a ostatak potrebne količine daje se intramuskularno u glutealnu reg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se aplikuje u svim slučajevima, bez obzira na vreme proteklo od ekspozicije virusu besni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može se dati najkasnije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8. da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oliko je antirabična zaštita započeta samo vakcinacij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rola imuniteta obavezna je kod postekspoziciono potpuno vakcinisanih lica u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odu od 1-4 nedelje (u praksi posle 3 nedelje) posle poslednje date doz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titar antitela protiv besnila veći ili jednak 0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J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nije potrebna revakcina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titar niži od 0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J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 osoba se revakciniše jednom dozom vakci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irusni hepatitis 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Besni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bušni tif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irusni hepatitis 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tovremeno sa imunizacijom protiv besnila sprovodi se imunizacija protiv tetanusa, u skladu sa ovim pravilniko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ktivna i pasivna imunizacija protiv tetanusa kod povređenih 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unizacija protiv tetanusa kod povređenih lica sprovodi se vakcinisanjem adsorbovanom TT vakcinom i humanim antitetanusnim imunoglobulinom (HTIG) na sledeći nač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a su potpuno vakcinisana i revakcinisana protiv tetanusa za svoj uzrast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manje od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eset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 dobijaju ni vakcinu ni HTIG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a su potpuno vakcinisana i revakcinisana protiv tetanusa za svoj uzrast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više od deset 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bijaju jednu dozu TT vakcine i 250I.J. HTIG, odmah po povređivanju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a koja nisu vakcinisana, lica koja su nepotpuno vakcinisana ili nemaju dokaze o imunizaciji protiv tetanusa, dobijaju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i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oze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TT vakc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vu dozu odmah, drugu dozu u razmaku ne kraćem od mesec dana, treću dozu šest meseci nakon druge doze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0,1,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a lica dobijaju i HTIG sa prvom dozom vakcine, odmah po povređivanj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e TT i HTIG daju se istovremeno, intramuskularno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trbušnog tifus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kod odraslih  dece starije od 2 godine jednom dozom inaktivisane (mrtve) polisaharidne vakcine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kcinacija se sprovodi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akata-osoba koje žive u zajedničkom domaćinstvu sa kliconošama trbušnog tif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a koje rade u lošim higijenskim uslovi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poslenih u komunalnim preduzećima na uklanjanju komunalnog otpada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nalizaciji, sahranjivanju i s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akcinacija se sprovodi  nakon 3 godine od 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virusnog hepatitisa 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kod odraslih i dece starije od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dina davanjem jedne doze inaktivisane virusne vakcin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venskih korisnika doz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lantacije jetr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a koje rade u lošim higijenskim uslovima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poslenih u komunalnim predizećima na uklanjanju komunalnog otpada, kanalizacije,sahranjiv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škaraca koji imaju seksualne odnose sa drugim muškarcima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cilju postizanja dugotrajne zaštite treba dati drugu dozu (buster)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-1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eci posle prve , najkasnije do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seci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147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munizacija protiv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utnog virusnog hepatitisa B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ovodi se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nih partnera HbsAg pozitivnih lic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tićenika ustanova socijalne zašti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venskih narkoman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ćnih kontakata sa HbsAg pozitivnih 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u ustanovama za izvršenje kaznenih sankc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munizacija protiv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rusnog hepatitisa B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preekspoziciono i kod lica zaposlenih u zdravstvenim ustanovama (Obavezno od 1.4.2019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 akutnog virusnog hepatitisa B  sprovodi se s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 doz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 vakcine 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6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eci od utvrđivanja indikacije.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 pasivna imunizacija protiv hepatitisa 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kspoziciono sprovodi se ko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orođenčadi HBSAg pozitivnih majki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a koja su imala akcident sa infektivnim materijal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dnica sa oštećenjem jetre, ako su bile eksponirane infekc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 pasivna imunizacija protiv akutnog virusnog hepatitisa B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unizacija lica koja su imala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kcid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 infektivnim materijalom i vakcinacija novorođenčadi HbsAg pozitivnih majki sprovodi se sa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četiri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 šemi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0, 1, 2. i 12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akcinisana i nepotpuno vakcinisana lica koja su imala akcident sa infektivnim materijalom (krv ili serum)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avezno se zaštićuju i intramuskularnim davanjem hepatitis B imunoglobulina (HBIG) u količini koju preporučuje proizvođač, odmah po akcidentu a najkasnije 12 sati od momenta akcid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orođenčad HbsAg pozitivnih majk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orođenčad HbsAg pozitivnih majki obavezno se zaštićuju i intramuskularnim davanjem hepatitis B imunoglobulina (HBIG) u količini koju preporučuje proizvođač, odnosno rođenju, a najkasnije do 12 sati od  rođe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munizacij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cijenata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pre početka dijal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Aktivna imunizacija pacijenata p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panja na dijalizu sprovodi se sa po šemi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0, 1, 2. i 6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anje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vostruk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ze za određeni uzrast (8 doza vakcin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12:04Z</dcterms:created>
  <dc:creator>Intel</dc:creator>
  <dc:description/>
  <dc:language>en-US</dc:language>
  <cp:lastModifiedBy>Korisnik</cp:lastModifiedBy>
  <dcterms:modified xsi:type="dcterms:W3CDTF">2019-11-04T10:54:55Z</dcterms:modified>
  <cp:revision>37</cp:revision>
  <dc:subject/>
  <dc:title>Obavezna imunizacija lica eksponiranih određenim zaraznim bolestim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