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4E3-7147-4752-8858-41907816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7E7-7366-4DF6-8D6C-03FDD5CF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2C4-62B1-4B1A-A38A-BD511FF9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925-CD43-4BB4-9C98-6DC92758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4AE4-DAA3-466F-A56F-E6A216E4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9078A-2B0E-4029-A31A-B1C28DB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1BC15-1AD0-4BD6-97F9-07CDD87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04A4-1978-40E0-9985-59B102E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197F-92A4-4E1D-A100-FEC4E35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55266-593F-413D-A9C8-0525E97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2363F-FF0B-4379-8329-9292432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BD8-7966-4163-8FF7-B8D9CD0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6FC73-F62B-45DC-9ECA-988C23B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957AC-507F-4757-9110-0E3DFF2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BC02A-4755-4096-AD61-A6A032BF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CCA90-1146-43BC-92B1-EC6BEA94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174EF-CEE9-4FCA-BCED-2C9670E8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192-2267-4FE5-A9FA-7FA0A38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E1C-5F4D-4991-ABCD-AF56EF03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C07-167F-4AE7-9801-616D40B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A41-6F09-40E9-BAEB-3B277A5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202-A13B-4BA7-957C-8900CAAF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75B-ABC0-4399-8ECA-10EE1F2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DF5-A12A-4086-8746-FAADCCC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1CF-B28C-4890-8985-F5B09C1E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788B-9A47-4EB8-9F97-B582E3E04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MEĐUNARODNI ZDRAVSTVENI PRAVILN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Zavod boja"/>
          <p:cNvPicPr/>
          <p:nvPr/>
        </p:nvPicPr>
        <p:blipFill>
          <a:blip r:embed="rId1"/>
          <a:stretch/>
        </p:blipFill>
        <p:spPr>
          <a:xfrm>
            <a:off x="4500720" y="152280"/>
            <a:ext cx="39589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uelni 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donet je 2016. godine (Službeni glasnik RS, 25.2.2016. Br. 15/2016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Ovim zakonom uređuju se zaštita stanovništva od zaraznih bole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eđuju se zarazne bolesti koje se obavezno prijavlju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u se mere zaštite od zaraznih bol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e se sprovođenje epidemiološkog nadz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zne bolesti po kategorijam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mogu sprečiti imunizacij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terija (Diphtheri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2) Infekcije uzrokovane hemofiluso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grupe B (Haemophilus influenzae B cut causa morborum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luenca/Grip uključujući influencu A(H1N1) (Influenzae/Influenzae A (H1N1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Morbili/Male boginje (Morbilli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Parotitis/Zauške (Parotit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 Pertusis/Veliki kašalj (Pertuss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Poliomijelitis/Dečja paraliza (Poliomyelitis anterior acut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Rubela/Crvenka (Rubell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Variola vera/Velike boginje (Variola ver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Tetanus (Tetanu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no prenosiv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Infekcije hlamidijom (Infectio chlamydia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Gonokokne infekcije (Infectio gonococcic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ekcija uzrokovana virusom humane imunodeficijencije (HIV-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Sifilis (Syphill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fi-FI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usni hepatitisi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1) Hepatitis A (Hepatitis 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2) Hepatitis B (Hepatitis B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3) Hepatitis C (Hepatitis C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hranom i vodom i bolesti uzrokovane okruženjem (životnom sredino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Antraks (Anthrax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Botulizam (Botulismu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Kampilobakterioza (Campylobac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Kriptosporidioza (Cryptosporid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Lambliaza (Đardioza) (Labliasis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kcija uzrokovana enterohemoragijskom E. Koli (Infectio intestinalis per E. Coli enterohaemorrhagicam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Leptospiroza (Leptospir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Listerioza (Lis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Salmoneloza (Salmon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Šigeloza (Shig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1) Toksoplazmoza (Toxoplasm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2) Trihineloza (Trichine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) Jersinioza (Yersinosis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tale bole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esti koje se prenose nekonvencionalnim uzročnic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spongioformne encefalopatije, varijanta Krojcfeldt-Jakobsov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azduh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egioneloza (Legion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kokna bolest (invazivna bolest) (Morbus Meningococcic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neumokokne infekcije (invazivna bolest) (Infectio Pneumococcal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berkuloza (Tubercu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ežak akutni respiratorni sindrom (SARS) (SARS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oonoz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loza (Bruc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hinokokoza (Echinococc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esnilo (Rabie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 groznica (Q-febr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laremija (Tularaem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85680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jarna influenca kod ljudi (Avian influenza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fekcija uzrokovana virusom Zapadnog Nila (Febris West Nil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emoragijska groznica sa bubrežnim sindromom (Febris haemorrhagica cum syndroma renali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Ozbiljne uvezen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era (Choler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arija (Malari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uga (Pest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đunarodni zdravstveni pravilni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iše primenu i sprovođenje efikasnih mera protiv širenja zaraznih bolesti u međunarodnim razme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ije se zva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đunarodni sanitarni pravilni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odnosio se samo na karantins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vetu je došlo do pojave novih ali i do ponovnog javljanja star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ga, kolera, velike boginje nisu više karantins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nas p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ostoje veliki rizici od bioloških i radioaktivnih agen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ne hemoragične groznice (Viral haemorrhagic fever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ektor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rpeljski encefalitis (Encephalitis viralis ixodib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a zdravstvena pitanj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Bolničke infekcije (infekcije povezane sa zdravstvenom zaštit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Antimikrobna rezistenc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D:\NATASA RANCIC BEKAP\Vežbe 1-6\vežbe, medicina\I vežba,medicina\images.jpg"/>
          <p:cNvPicPr/>
          <p:nvPr/>
        </p:nvPicPr>
        <p:blipFill>
          <a:blip r:embed="rId1"/>
          <a:stretch/>
        </p:blipFill>
        <p:spPr>
          <a:xfrm>
            <a:off x="6732720" y="476280"/>
            <a:ext cx="2303280" cy="34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NATASA RANCIC BEKAP\Vežbe 1-6\vežbe, medicina\I vežba,medicina\images (6).jpg"/>
          <p:cNvPicPr/>
          <p:nvPr/>
        </p:nvPicPr>
        <p:blipFill>
          <a:blip r:embed="rId2"/>
          <a:stretch/>
        </p:blipFill>
        <p:spPr>
          <a:xfrm>
            <a:off x="471636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:\NATASA RANCIC BEKAP\Vežbe 1-6\vežbe, medicina\I vežba,medicina\images (5).jpg"/>
          <p:cNvPicPr/>
          <p:nvPr/>
        </p:nvPicPr>
        <p:blipFill>
          <a:blip r:embed="rId3"/>
          <a:stretch/>
        </p:blipFill>
        <p:spPr>
          <a:xfrm>
            <a:off x="0" y="0"/>
            <a:ext cx="230508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NATASA RANCIC BEKAP\Vežbe 1-6\vežbe, medicina\I vežba,medicina\download (1).jpg"/>
          <p:cNvPicPr/>
          <p:nvPr/>
        </p:nvPicPr>
        <p:blipFill>
          <a:blip r:embed="rId4"/>
          <a:stretch/>
        </p:blipFill>
        <p:spPr>
          <a:xfrm>
            <a:off x="2627280" y="484200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D:\NATASA RANCIC BEKAP\Vežbe 1-6\vežbe, medicina\I vežba,medicina\images.png"/>
          <p:cNvPicPr/>
          <p:nvPr/>
        </p:nvPicPr>
        <p:blipFill>
          <a:blip r:embed="rId5"/>
          <a:stretch/>
        </p:blipFill>
        <p:spPr>
          <a:xfrm>
            <a:off x="0" y="3071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:\NATASA RANCIC BEKAP\Vežbe 1-6\vežbe, medicina\I vežba,medicina\images (10).jpg"/>
          <p:cNvPicPr/>
          <p:nvPr/>
        </p:nvPicPr>
        <p:blipFill>
          <a:blip r:embed="rId6"/>
          <a:stretch/>
        </p:blipFill>
        <p:spPr>
          <a:xfrm>
            <a:off x="2286000" y="500040"/>
            <a:ext cx="2519280" cy="335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:\NATASA RANCIC BEKAP\Vežbe 1-6\vežbe, medicina\I vežba,medicina\images (11).jpg"/>
          <p:cNvPicPr/>
          <p:nvPr/>
        </p:nvPicPr>
        <p:blipFill>
          <a:blip r:embed="rId7"/>
          <a:stretch/>
        </p:blipFill>
        <p:spPr>
          <a:xfrm>
            <a:off x="4857840" y="1071720"/>
            <a:ext cx="18716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E ZA SPREČAVANJE I SUZBIJANJE ZARAZNIH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49984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SE U OBJEKTIMA KO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LEŽU SANITARNOM NADZ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IH ZDRAVSTVENI RADN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čavanje i suzbij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vi-V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čavanje 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e zarazne bolesti jeste skup mera koje se stalno sprovode u cilju predupređivanja pojave infekcije ili zarazne boles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zbijan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jeste skup mera koje se sprovode protiv već prisutne zarazne bolesti, u cilju smanjenja njene učestal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K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ispravne vode za piće (dezinfekcija vode u vodovodima, hlorisanje), obezbeđenje ispravne vode za sanitarno-higijenske i rekreativne potrebe (bazeni) i zaštita izvoriš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hrane (od proizvodnje, districubucije, usluživanja) i sanitarno-higijenskih uslova objekata u kojima se proizvodi hr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D:\NATASA RANCIC BEKAP\Vežbe 1-6\vežbe, medicina\I vežba,medicina\images (2).jpg"/>
          <p:cNvPicPr/>
          <p:nvPr/>
        </p:nvPicPr>
        <p:blipFill>
          <a:blip r:embed="rId1"/>
          <a:stretch/>
        </p:blipFill>
        <p:spPr>
          <a:xfrm>
            <a:off x="5796000" y="5013360"/>
            <a:ext cx="33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K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kupališnih, bazenskih voda, javnih česmi i iz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higijene na javnim površinama-parkovi, u javnim objektima (pozorišta, bioskopi), javnom prev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ijensko otklanjanje otpadnih materija , leševa životinja,higijena na grobl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D:\NATASA RANCIC BEKAP\Vežbe 1-6\vežbe, medicina\I vežba,medicina\images (7).jpg"/>
          <p:cNvPicPr/>
          <p:nvPr/>
        </p:nvPicPr>
        <p:blipFill>
          <a:blip r:embed="rId1"/>
          <a:stretch/>
        </p:blipFill>
        <p:spPr>
          <a:xfrm>
            <a:off x="7596360" y="620640"/>
            <a:ext cx="1547640" cy="16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NATASA RANCIC BEKAP\Vežbe 1-6\vežbe, medicina\I vežba,medicina\images (8).jpg"/>
          <p:cNvPicPr/>
          <p:nvPr/>
        </p:nvPicPr>
        <p:blipFill>
          <a:blip r:embed="rId2"/>
          <a:stretch/>
        </p:blipFill>
        <p:spPr>
          <a:xfrm>
            <a:off x="7812000" y="2806560"/>
            <a:ext cx="133200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đenje preventivne dezinfekcije, dezinsekcije i deratizacije u naseljenim mestima, na javnim površinama, u objektima u kojima se obavlja društvena dela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 sprovode javno komunalna preduzeć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 zdravstveni radn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D:\NATASA RANCIC BEKAP\Vežbe 1-6\vežbe, medicina\I vežba,medicina\download (4).jpg"/>
          <p:cNvPicPr/>
          <p:nvPr/>
        </p:nvPicPr>
        <p:blipFill>
          <a:blip r:embed="rId1"/>
          <a:stretch/>
        </p:blipFill>
        <p:spPr>
          <a:xfrm>
            <a:off x="6948360" y="4724280"/>
            <a:ext cx="219564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NATASA RANCIC BEKAP\Vežbe 1-6\vežbe, medicina\I vežba,medicina\download (3).jpg"/>
          <p:cNvPicPr/>
          <p:nvPr/>
        </p:nvPicPr>
        <p:blipFill>
          <a:blip r:embed="rId2"/>
          <a:stretch/>
        </p:blipFill>
        <p:spPr>
          <a:xfrm>
            <a:off x="3780000" y="5084640"/>
            <a:ext cx="3168360" cy="177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NATASA RANCIC BEKAP\Vežbe 1-6\vežbe, medicina\I vežba,medicina\images (9).jpg"/>
          <p:cNvPicPr/>
          <p:nvPr/>
        </p:nvPicPr>
        <p:blipFill>
          <a:blip r:embed="rId3"/>
          <a:stretch/>
        </p:blipFill>
        <p:spPr>
          <a:xfrm>
            <a:off x="7380360" y="1484280"/>
            <a:ext cx="176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D:\NATASA RANCIC BEKAP\Vežbe 1-6\vežbe, medicina\I vežba,medicina\download (5).jpg"/>
          <p:cNvPicPr/>
          <p:nvPr/>
        </p:nvPicPr>
        <p:blipFill>
          <a:blip r:embed="rId4"/>
          <a:stretch/>
        </p:blipFill>
        <p:spPr>
          <a:xfrm>
            <a:off x="97164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I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SKA 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AKTIČKA DEZINFEKCIJA, DEZINSEKCIJA I DERATIZ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9" descr="D:\NATASA RANCIC BEKAP\Vežbe 1-6\vežbe, medicina\I vežba,medicina\download (7).jpg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PROFILAKTIČ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KRIVANJE I OBESKLIČENJE ZDRAVIH NOSILACA UZROČNIKA ZARAZNIH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O VASPI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D:\NATASA RANCIC BEKAP\Vežbe 1-6\vežbe, medicina\I vežba,medicina\download (6).jpg"/>
          <p:cNvPicPr/>
          <p:nvPr/>
        </p:nvPicPr>
        <p:blipFill>
          <a:blip r:embed="rId1"/>
          <a:stretch/>
        </p:blipFill>
        <p:spPr>
          <a:xfrm>
            <a:off x="468360" y="4292640"/>
            <a:ext cx="1800000" cy="187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:\NATASA RANCIC BEKAP\Vežbe 1-6\vežbe, medicina\I vežba,medicina\images (1).jpg"/>
          <p:cNvPicPr/>
          <p:nvPr/>
        </p:nvPicPr>
        <p:blipFill>
          <a:blip r:embed="rId2"/>
          <a:stretch/>
        </p:blipFill>
        <p:spPr>
          <a:xfrm>
            <a:off x="3203640" y="4365720"/>
            <a:ext cx="2520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revidiran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Pravilnik je stupio na snagu maja 2007. god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još uvek je na snaz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čajne nov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ovom međunarodnom dokument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mesto određenog broja karantinskih bolesti, predmet novog pravilnika su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događaj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ji mogu da predstavljaju opasnost za narodno zdravlje u međunarodnim razmer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 SUZBIJANJA-PROTIVEPIDEMIJS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E SE PRI POJAVI BAR JEDNOG ILI VIŠE SLUČAJEVA NEKE ZARAZN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USPEŠNO SUZBIJANJE ODREĐENE ZARAZNE BOLESTI NEOPHODNO JE POZNAVANJE FAKTORA KOJI USLOVLJAVAJU POJAVU BOLESTI I NJENO ŠIREN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REBNO JE I POZNAVANJE PROTIVEEPIDEMIJSKIH M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 SUZBIJANJA-PROTIVEPIDEMIJS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e suzbijanja neke bolesti su strogo specifič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otivepidemijske mere spad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O OTKRIVANJE IZVORA ZARA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OL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O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 SUZBIJANJA-PROTIVEPIDEMIJS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Č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JSKO ISPIT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NADZOR I KARAN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I HEM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ZINFEKCIJA, DEZINSEKCIJA I DERATIZACIJA PO EPIDEMIOLOŠKIM INDIKACIJ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stranjivanje-eliminacija, likvid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JE SKUP POSEBNIH MERA KOJE SE PREDUZIMAJU U CILJU DA SE BROJ SLUČAJEVA NEKE ZARAZNE BOLESTI SVEDE NA NAJMANJU MEREU, ODNOSNO DA SE ELIMINIŠE ZA JEDNO KRAĆE ILI DUŽE VRE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KORENJIVANJE-ERADIKAC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 MERA KOJE IMAJU ZA CILJ DA ELIMINIŠU UZROČNIKA ZARAZNE BOLESTI NA ODREĐENOJ TERITORIJI U STROGO ODREĐENOM VREMENSKOM PERIO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0. GODINE OSTVARENA JE ERADIKACIJA VELIKIH BOGINJA-VARIOLE VERE U CELOM SVE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java makar i jednog obolelog od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likih boginja, poliomijelitisa i teškog respiratornog sindroma (SARS) zahteva obaveznu prijav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jav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ke od sledećih bolesti: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olera, plućna kuga, plućni antraks i žuta groznic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zavisi od lokalnih okolnosti 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javljuje s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 osnovu posebne liste (algoritma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vetskoj zdravstvenoj organizaciji (SZ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cilju efikasnog sprovođen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đunarodnog zdravstevog 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vilnika, svaka zemlja člani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O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ra da osnuje Nacionalni cent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Pravilniku je predviđena </a:t>
            </a:r>
            <a:r>
              <a:rPr b="0" lang="sr-Latn-CS" sz="3200" spc="-1" strike="noStrike">
                <a:solidFill>
                  <a:srgbClr val="ffc000"/>
                </a:solidFill>
                <a:latin typeface="Times New Roman"/>
              </a:rPr>
              <a:t>obavezna vakcinacija i preventivna zaštita lekovima (hemioprofilaksa) za putnike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uta groznic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jed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ntins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ZAKONSKA REGULATIVA KOD 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Zavod boja"/>
          <p:cNvPicPr/>
          <p:nvPr/>
        </p:nvPicPr>
        <p:blipFill>
          <a:blip r:embed="rId1"/>
          <a:stretch/>
        </p:blipFill>
        <p:spPr>
          <a:xfrm>
            <a:off x="2556000" y="152280"/>
            <a:ext cx="5400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ša zemlja ima veoma razvijeno sanitarno zakonodavst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etskog rata, 1948. godine donet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šti zakon o sprečavanju i suzbijanju zarazn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obavezno prijavljivanje za 24 zarazne bolest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je sa izmenama i dopunama, 1964. godine pretvoren u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snovni zakon 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prečavanju i suzbijanju zaraznih 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42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ko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 zaštiti stanovništva od zaraznih bolesti koje ugrožavaju celu zeml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onet je 1974. godine. Odnosio se na celu teritoriju SFRJ (24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oj republici i pokrajini ostavljeno je pravo da donese svoje zakonske propise kojima može da proširi listu zaraznih bolesti koje se obavezno prijavlju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imao je više dopuna i promena i to 1984, 1990, 1992 i 1996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win7</cp:lastModifiedBy>
  <dcterms:modified xsi:type="dcterms:W3CDTF">2016-12-27T19:45:07Z</dcterms:modified>
  <cp:revision>90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