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5950-D599-4721-893A-750DFF5DC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3B65-4063-4BF7-8A7A-1D32664D1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CE4F-BAA2-4D90-8F6E-F291155CE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29D6-CE4C-42D5-AD27-17EB1E989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D4F06-1BAD-4545-9BB5-AB89E7CB4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B7801-66DC-417E-BE3E-3300C1623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EB57B-BC90-4566-9402-0E654895C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1D534-0B10-4AE7-8B0B-58CAA46C8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22C1E-D8A6-478B-8DB8-42F245385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C8A0A-77C9-45BA-A565-D8D8D3F75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9CCD9-F81A-4B10-9C2F-D8BC2717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3F80-FBDF-4F94-A032-1439F05C8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1E698-EAA6-4886-8DDC-E6354411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4892F-4F6A-4D41-8DD3-B63F172C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325F3-1501-46C5-AB4C-D9366FE4F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A596F-FD4E-4ED4-BB79-40EE33675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CF8FA-2E27-4754-8A63-08B113F61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7E3F-4DE8-4643-8BF1-6729B56E4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BF28-EF7E-4FCC-ACBD-92046B4EF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2E3D-2B10-4D95-9897-1B35135D0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5D39-BD7B-4D94-A593-F5896F292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13A2-9293-4E7D-93BE-827FFDC9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89C1-4B46-42BA-97A8-0A45B1AF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A547-C7FF-4ECC-B363-D451FEFF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1251A-A5E3-497D-AAD6-DA0B4DA7977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28DCC-23D8-4B8B-8CA1-8F6BCA020DB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Times New Roman"/>
              </a:rPr>
              <a:t>ČUVANJE I TRANSPORT VAKCINA "HLADNI LANAC"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Transport i čuvanje vakcina pod određenim temperaturnim uslovima od proizvođača preko distributera do krajnjeg korisnika zove se hladni lanac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Iz 1997. (Odluka o imunizacijama, Službeni list SRJ 27/97) odredbe o hladnom lancu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Režim hladnog lanca strožiji je kada su u pitanju žive vakcine, naročito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od osetljivih virusa kao što su morbili, parotitis i rubeola, kao i za poliovirusnu vakcinu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Blaži kriterijumi za BCG vakcinu, mrtve vakcine i toksoide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Jedina stabilna vakcina na višim temperaturama vakcina protiv akutnog hepatitisa B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Sve vakcine treba da se čuvaju u specijalnim frižiderima, ali ako ih nema, onda u običnim frižiderima za domaćinstvo, ali je obavezno prisustvo termometra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Temperatura mora da bude između 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i 8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Hladni lanac se kontroliše primenom određenih indikatora promene temperature tzv. monitorim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Svaka zdravstvena ustanova mora da koristi rashladne uređaje za čuvanje i transport vakcina, a u tim uređajima moraju da postoje indikatori temperature (termometri ili monitor-kartice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Monitor-kartica je karton u kome se upisuju podaci o vakcini (datum, vrsta i serija, lokacija), počevši od proizvođača, preko distributera do krajnjeg korisnika(onog ko primenjuje vakcinu), tj. na svim karikama hladnog lanca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ostoji i jedna specijalna traka sa otvorima obeleženim slovima A, B, C i D. Ova traka se aktivira kada vakcina počinje put od proizvođača koji je aktivira, ka korisniku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Ova kartica je neprekidno uz vakcinu, do utroška poslednje doze. Hemijska traka je osteljiva na temperaturu iznad 1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stepeni i počinje da dobija plavu boju, od mesta gde je aktivirana, odnosno od otvora 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rema širenju plave boje može se zaljkučiti koliko dugo je vakcina transportovana i kojoj temeraturi je bila izložen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Otvori A,B,C odnose se na temperature iznad 12° C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Otvor D je specifičan i pokazuje da li je vakcina bila čak i kratkotrajno (najmanje 2 sata) izložena temperaturi višoj od 34° C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Svi podaci na monitor kartici o kritičnoj temperaturi u toku transporta odnose se samo na više nedozvoljene temperat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Ako se radi o nižim temeperaturama ispod 0°C, onda se to kontroliše specijalnim dodatkom tzv. «friz voč» monitorom, jednom cevčicom sa rezervoarom napunjenim crvenim mastilom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Ovaj «friz voč» se nalepi na monitor karticu, a koristi se u toku zimskih meseci kada se očekuju niske temperatur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Mehanizam ove kontrole je takav da cevčica puca na temperaturi ispod minus 4°C u toku jednog sata i oboji crveno ograničeno polje na monitor kartici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Ova kontrola temperature niže od 0°C bitna je zbog opasnosti od zamrzavanja mrtvih i toksoidnih vakcina u tečnom stanju, koje ne smeju da se zamrzavaju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Ako je «friz voč» proliven, odnosno, ako je neka od ovih vakcina bila zamrznuta, ona nije više za upotrebu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09:49:53Z</dcterms:created>
  <dc:creator>Intel</dc:creator>
  <dc:description/>
  <dc:language>en-US</dc:language>
  <cp:lastModifiedBy>win7</cp:lastModifiedBy>
  <dcterms:modified xsi:type="dcterms:W3CDTF">2004-11-18T12:12:19Z</dcterms:modified>
  <cp:revision>8</cp:revision>
  <dc:subject/>
  <dc:title>ČUVANJE I TRANSPORT VAKCINA "HLADNI LANAC"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