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CBEA-5DC4-480A-A0AF-32DE69A6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F8D3-3A9F-4548-B4B0-40DDDC72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B7A-B360-49FD-BC95-B83EE7FD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F64-790B-4606-952F-F767DE37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3C9-9E78-4961-B587-EAE2D2E3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80E-526F-4DB6-AFCB-7B827740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64D-65D3-4146-A15B-B999C657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9DE-BB16-4AB3-9C1C-1DDDFE00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6DF9-1C17-4DA3-B37B-33F04E1E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ACDB-2CB9-4E8F-A4D3-B7E838FA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86E8-1292-4AEE-8E58-D9A48B26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DF3-46A3-4A89-8105-8FB834B8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1B06-695C-4425-AAF4-35037B8651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ijavljivanje masovnih zaraznih i masovnih nezaraznih bolesti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jedinačnom prijavom prijavljuje 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oljenje od zarazne bolest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zuzev oboljenja od zaraznih bolesti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e se prijavljuju zbirnom prijav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rt od zaraz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lesti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mrt od zarazne bolesti koja nije navedena u članu 2. ovog pravilnika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nj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postoji oboljenje od zarazne bolesti utvrđene u članu 7. stav 1. ovog pravilnika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lučivanje uzročnik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bušnog tifusa i paratifusa (Z 22.0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izlučivanje uzročnika drugih salmoneloza, šigeloza, jersinioza, kampilobakterioza (Z 22.1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ilaštv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gena virusnog hepatitisa B (HBsAg - Z 22.5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nosilaštvo antitela na virusni hepatitis C (anti HCV - Z 22.9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nosilaštvo parazita - uzročnika malarije (Z 22.8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nosilaštvo antitela na HIV (anti HIV - Z 21)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jedinačna prijava kojom se prijavljuju slučajevi utvrđeni u stavu 1. tač. 1) do 8) ovog člana podnosi se na Obrascu br. 1 (Obr. br. DI-07/1)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jedinačna prijava kojom se prijavljuje oboljenje, odnosno smrt od malarije, kao i nosilaštvo parazita - uzročnika malarije podnosi se na Obrascu br. 6 (Obr. br. DI-07/6)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jedinačna prijava nosilaštva antitela na HIV, oboljenje, odnosno smrt od HIV bolesti, podnosi se na Obrascu br. 10 (Obr. br. DI-08/7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ljivanje zarazne bolesti vrši se na osnovu kliničke, odnosno laboratorijske dijagnoze, a prema definiciji slučaja i na osnovu stručno-metodološkog uputstva u skladu sa Zakono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Ako se prijavljivanje zarazne bolesti vrši na osnovu kliničke dijagnoze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pojedinačna prijava podnosi se u roku od 24 sata od postavljanja dijagnoz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Ako je, u cilju postavljanja dijagnoze, preduzeto i laboratorijsko ispitivanje, prijava zarazne bolesti podnosi se u roku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ahoma"/>
              </a:rPr>
              <a:t>od 24 sata od dobijanja konačnih laboratorijskih nalaza.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Dijagnoza zarazne bolesti upisuje se na latinskom jeziku i šifrira prema važećoj Međunarodnoj klasifikaciji bolesti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jave  s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tavljaju institutu, odnosno zavodu za javno zdravlj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teritoriji na kojoj je utvrđeno: oboljenje, odnosno smrt od zarazne bolesti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rt od bilo koje zarazne bolesti koja nije utvrđena u članu 2. ovog pravilnik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nja da postoji oboljenje od kolere, kuge, velikih boginja, žute groznice, virusnih hemoragičkih groznica, poliomijelitisa, difterije, malih boginja i botulizma; izlučivanje uzročnika trbušnog tifusa, paratifusa, drugih salmoneloza, šigeloza, jersinioza, kampilobakterioza, nosilaštvo antigena virusnog hepatitisa B, nosilaštvo antitela na virusni hepatatis C, nosilaštvo antigela na HIV i nosilaštvo parazita - uzročnika malarij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Prijavu epidemije zarazne bolesti popunjava doktor medicine, epidemiolog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 instituta, odnosno zavoda za zaštitu zdravlja koji utvrdi epidemiju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Prijava iz stava 1. ovog člana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podnosi se Institutu za zaštitu zdravlja Srbije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, na Obrascu br. 2 (Obr. br. DI-07/2)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Epidemija zarazne bolesti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prijavljuje se odmah, a najkasnije u roku od tri dana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 od dana kada je epidemija utvrđena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O pojavi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epidemije zarazne bolesti nastale upotrebom životnih namirnica i vode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 poreklom iz objekata pod sanitarnim nadzorom,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odmah se putem telefona, u elektronskom obliku, telegrama, teleksa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 ili na drugi način pogodan za brzo obaveštavanje, obaveštava i organ uprave nadležan za poslove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sanitarnog nadzora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 na teritoriji na kojoj je epidemija utvrđena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Odjavu epidemije zarazne bolesti popunjava doktor medicine, epidemiolog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 instituta, odnosno zavoda za zaštitu zdravlja koji utvrdi prestanak epidemije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Odjava epidemije iz stava 1. ovog člana podnosi se Institutu za zaštitu zdravlja Srbije, na Obrascu br. 3 (Obr. br. DI-07/3).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Odjava epidemije zarazne bolesti vrši se po isteku dvostrukog najdužeg inkubacionog perioda određenog za zaraznu bolest koja je prouzrokovala epidemiju.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522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u o mogućnosti infekcij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virusom besnil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popunjava doktor medicine zdravstvene ustanove - antirabične stanice koji utvrdi mogućnost infekcije virusom besnil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a iz stava 1. ovog člana podnosi s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Pasterovom zavodu u Novom Sad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, na Obrascu br. 5 (Obr. br. DI-07/5), odmah po završetku antirabičnog tretman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u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bolničke infekci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popunjav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doktor medicin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zdravstvene ustanove u kojoj je bolnička infekcija nastal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a iz stava 1. ovog člana podnosi s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Komisiji za zaštitu od bolničkih infekcij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obrazovanoj radi sprovođenja nadzora nad bolničkim infekcijama u ustanovi u kojoj je bolnička infekcija nastala, na Obrascu br. 7 (Obr. br. DI-07/7)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Komisija za zaštitu od bolničkih infekcija iz stava 2. ovog člana,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u o potvrđenoj bolničkoj infekciji dostavlja mesno nadležnom institutu, odnosno zavodu za zaštitu zdravlja, u roku od tri da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od dana kada je bolnička infekcija potvrđena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u o laboratorijski utvrđenom uzročniku zarazne bolest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popunjava doktor medicin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mikrobiolo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laboratorije u kojoj je utvrđen uzročnik zarazne bolesti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a iz stava 1. ovog član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podnosi se institutu, odnosno zavodu za zaštitu zdravlj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na teritoriji na kojoj se nalazi laboratorija koja je utvrdila uzročnika zarazne bolesti, na Obrascu br. 8 (Obr. br. DI-07/8)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ljivanje laboratorijski utvrđenog uzročnika zarazne bolesti vrši se u roku od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24 sat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od trenutka utvrđivanja uzročnika - ako su u pitanju zarazne bolesti koje se prijavljuju pojedinačnom prijavom, odnosno u roku od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sedam da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- ako su u pitanju zarazne bolesti koje se prijavljuju zbirnom prijavom, a za koje je utvrđivanje uzročnika zarazne bolesti neophodno za postavljanje dijagnoze (šarlah, polna hlamidijaza, streptokokni faringitis i tonzilitis i grip)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Rezistencija drugih bakterija na antimikrobne lekov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prijavljuje s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Institutu za zaštitu zdravlja Srbi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, stručno-metodološkim uputstvima u skladu sa programima za odstranjivanje i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skorenjivanj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zaraznih bolesti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Ako je lice obolelo od zarazne bolesti za koju je u skladu sa zakonom obavezno epidemiološko ispitivanje, a nema prebivalište na teritoriji na kojoj se bolest pojavila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kopija pojedinačne prijave o oboljenju od zarazne bolesti kao i kopija laboratorijski utvrđenog uzročnika zarazne bolesti, dostavljaju se institutu, odnosno zavodu za zaštitu zdravlja na teritoriji na kojoj to lice ima prebivališ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Ako zdravstvena ustanova u koju je obolelo lice upućeno radi lečenja, izolacije ili izolacije i lečenja, utvrdi dijagnozu kojom s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menja prvobitno prijavljena dijagnoza, dužna je da o promeni dijagnoze obavesti institut, odnosno zavod za zaštitu zdravlja kojem je prijavljena prvobitno postavljena dijagnoza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ijavljivanje zaraznih bolesti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snovna protivepidemijska m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akonski ak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vilnik o prijavljivanju zaraznih bolesti I posebnih zdravstvenih pitanj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Službeni glasnik RS ", broj  44 оd 9. maja  2017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Ovim pravilnikom bliže se uređuj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obavezno prijavljivanje zarazne bolesti, odnosno smrti od zarazne bolesti i prijavljivanje drugih slučajeva koji, u skladu sa Zakonom o zaštiti stanovništva od zaraznih bolest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Zakona o zaštiti stanovništva od zaraznih bolesti („Službeni glasnik RS”, broj 15/16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podležu obaveznom prijavljivanju, određuju se rokovi, način i obrasci za njihovo prijavljivanje, zdravstvene ustanove i državni organi kojima se prijave dostavljaj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38098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2) </a:t>
            </a:r>
            <a:r>
              <a:rPr b="1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smrt od zarazne bolesti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koja nije navedena u članu 2. Zakona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3) </a:t>
            </a:r>
            <a:r>
              <a:rPr b="1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sumnj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da postoji oboljenje od kolere, kuge, velikih boginja, žute groznice, virusnih hemoragičkih groznica, poliomijelitisa, difterije, malih boginja i botulizma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4)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epidemij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zarazne bolesti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5) </a:t>
            </a:r>
            <a:r>
              <a:rPr b="1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izlučivanje uzročnik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trbušnog tifusa, paratifusa, drugih salomoneloza, šigeloza, jersinioza, kampilobakterioza, kao i nosilaštvo antigena virusnog hepatitisa B, nosilaštvo antitela na virusni hepatitis C, antitela na HIV i nosilaštvo parazita - uzročnika malarije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3805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6) mogućnost infekcije virusom </a:t>
            </a:r>
            <a:r>
              <a:rPr b="1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besnila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7) infekcija unutar zdravstvenih ustanova (u daljem tekstu: </a:t>
            </a:r>
            <a:r>
              <a:rPr b="1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bolnička infekcij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8) </a:t>
            </a:r>
            <a:r>
              <a:rPr b="1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rezistencija bakterij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na antimikrobne lekove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9) </a:t>
            </a:r>
            <a:r>
              <a:rPr b="1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laboratorijski utvrđen uzročnik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zarazne bolesti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10) </a:t>
            </a:r>
            <a:r>
              <a:rPr b="1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akutna flakcidna paraliz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11) </a:t>
            </a:r>
            <a:r>
              <a:rPr b="1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sumnja na upotrebu biološkog agensa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.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Načini prijavljivanj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Obavezno prijavljivanje oboljenja, odnosno smrti od zarazne bolesti vrši se na sledeći način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1)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nultom prijavo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;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2)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zbirnom prijavo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;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3)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hitnom prijavo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;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4) sistemom za rano upozoravanje i hitno reagovanje (u daljem tekstu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LER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);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5)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pojedinačnom prijavo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8394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Nultom prijavo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prijavljuje s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sustv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akutne flakcidne paralize, malih boginja - morbila, kongenitalne rubeo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i drugih zaraznih bolesti i drugih slučajeva, u skladu sa međunarodnim sanitarnim konvencijama i potvrđenim međunarodnim ugovorima i programima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Postupak prijavljivanja nultom prijavom vrši se prema stručno-metodološkim uputstvima, izrađenim u skladu sa programima za odstranjivanje i iskorenjivanje zaraznih bolesti, a na obrascu napravljenom u skladu sa preporukama Svetske zdravstvene organizacije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u iz stava 1. ovog člana popunjav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doktor medici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koji je utvrdio oboljenje zarazne bolesti iz stava 1. ovog člana na Obrascu br. 4 (Obr. br. DI-07/4)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načno prijavljivanje dijagnoze zarazne bolesti  prijavljuje se na Obrascu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Zbirna prijav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irnom prijavom prijavljuju se oboljenja slična gripu, akutne respiratorne infekcije i teške akutne respiratorne infekcije u skladu sa stručno-metodološkim uputstvom Zavoda, koje se ažurira svake godine pred početak nadzora nad gripom u skladu sa smernicama SZO i Evropskog centra za prevenciju i kontrolu bole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a iz stava 2. ovog člana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podnosi se jedanput nedelj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nstitutu, odnosno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avodu za zaštitu zdravlja na teritoriji na kojoj je zarazna bolest utvrđena, u roku od 48 sati od poslednjeg dana u nedelji za prethodnu nedelju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tnom prijavo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javljuje s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nja da postoji oboljevanje od: kolere, kuge, velikih boginja, žute groznice, virusnih hemoragičkih groznica, poliomijelitisa, difterije, malih boginja i botuliz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tno prijavljivanje vrši s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mah po postavljanju sumnj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postoji oboljenje od zarazne bolesti 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fonom, telegramom, teleksom, u elektronskom obliku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i na drugi način pogodan za hitno obaveštavanje, uz istovremeno podnošenje pojedinačne prijave sumnje da postoji to oboljen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ačno postavljena dijagnoza zarazne bolesti prijavljuje se podnošenjem pojedinačne prijave na Obrascu br. 1 (Obr. br. DI-07/1)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LER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ALER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 se sprovodi na teritoriji na kojoj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nstitut, odnosno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avod za zaštitu zdravlja, odnosno Institut za zaštitu zdravlja Srbije, proceni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da postoji opasnost o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1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pojave epidemija zaraznih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 bolesti u elementarnim nesrećama, katastrofama i organizovanim masovnim okupljanjima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2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širenja epidemij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 i posle preduzimanja protivepidemijskih mera za vreme trajanja epidemije zarazne bolesti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3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pojave nove ili nedovoljno poznate zarazne bolest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4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pojave nedovoljno definisanih simptoma i stanj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5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biološkog agens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, u slučaju sumnje na upotrebu tog agensa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ljivanje ALERT-om počinje odmah po saznanju da postoji opasnost od nastanka slučaja utvrđenog u stavu 1. ovog člana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Organizaciju, učesnike i postupke u sistemu prijavljivanja ALERT-om određuje zdravstvena ustanova iz stava 1. ovog člana koja proceni da postoji opasnost od nastanka slučaja utvrđenog u stavu 1. ovog člana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ALERT se sprovodi sve vreme dok postoje razlozi utvrđeni u stavu 1. ovog člana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9:35:37Z</dcterms:created>
  <dc:creator>IZJZ</dc:creator>
  <dc:description/>
  <dc:language>en-US</dc:language>
  <cp:lastModifiedBy>win7</cp:lastModifiedBy>
  <dcterms:modified xsi:type="dcterms:W3CDTF">2016-12-31T09:16:49Z</dcterms:modified>
  <cp:revision>35</cp:revision>
  <dc:subject/>
  <dc:title>PRAVILNIK O PRIJAVLjIVANjU ZARAZNIH BOLESTI I DRUGIH SLUČAJEVA UTVRĐENIH ZAKONOM O ZAŠTITI STANOVNIŠTVA OD ZARAZNIH BOLESTI (Objavljen u "Sl. glasniku RS", br. 98 od 15. novembra 2005; 107/2005)</dc:title>
</cp:coreProperties>
</file>