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DE5-8A40-4ACE-8A19-4894822F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523-2A9A-4B35-AE31-C780AB4D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002-CED4-4F87-9D77-C2E016FC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7E5-8765-482D-8563-9A79F89B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6757-8A88-436E-9561-26CF8D49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2968-3090-49EB-9F0E-16DDD4BC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417A-066B-4902-A99A-80E7801B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26E4-973E-4B88-8B42-8196E74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E56B-2A0F-4428-86D6-678EAC8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0720-62C6-41FF-BFC6-062D0D54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811E-97BA-414E-B208-6D8ADF4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7AF-FB91-48CD-A103-1D2B83D7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14D1-C00E-4192-89D9-BB94DABD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CDD6-7256-4DC1-86AF-85132D21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6FF7-7771-420B-8F58-B2816C18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B0C9-F5C0-42D5-B040-92CE9914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3E91-0ADE-48FD-9F4D-99619322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6E5-9C1E-4F2F-8CF7-4E8ED546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8D8-90AA-4967-AB07-483B4E43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0E9-5DDA-4D98-8783-C4E048C3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6F0-4B24-4E5B-A645-E3EF65D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C37-DA4C-44D6-8A49-536047B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398-C863-4476-B21B-B1B5A70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AD4-A326-421F-9591-2AF1BBC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F015-184B-4401-A800-121CBB15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E7E-D153-46C7-8A0C-956B8A94721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zinse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z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 se koriste sledeća fizička sredstva:plamen, iskuvavanje, vodena para i suva toplo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 sredstva imaju prednosti I m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men: uništavanje bezvrednih predmeta, otpad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kuvavanje je efikasno za materijale koji ga mogu podne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jali od kože, svile, vune, gume ne mogu se iskuva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ena para je bila najpoznatije fizičko sredstvo za suzbijanje vektora (vaši tela) pegavog tifusa u I I II svetskom ra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štavanje vašiju i gnjida postiže se vodenom parom na temperaturi od 65 stepeni za 5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 vremena ekspozicije i temerature povećava se efekat p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sme se izlagati 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 rublje koje je zaprljano krvl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to je srpsko ili partizansko b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drveno bure, poklopac, odeća, izbušeno dno bureta, kazan sa vo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benzinsko bure, drveni poklopac, letvice ili granje za zaštitu odeće od zagrejanog zida bureta, odeća, rešetka, v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zinsekcija suvom toplotom obavlja se u aparatima koji mogu da izdrže razvoj visoke temerature (pegl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ogu da budu i prostorije/objekti koji mogu da izdrže visoku temeraturu: pekare, komore, sušnice voć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pozicija-izlaganje suvoj toploti iznosi 30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komore mogu se upotrebljavati sve zatvorene prostorije u kojima se temperatura vazduha može zagrejati između 80 i 100 stepe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ore mogu da budu pokretne i nepokret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zemne komore-zemljanke. Greju se pomoću peći spol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se za dezinsekciju suvom toplotom u kućnim/bolničkim uslovima najviše koristi peg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 se uništile vaši i gnjide (vaš glave) moraju da se peglaju šavovi odeće sa nalič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o mogu da se unište i jaja moljaca i mu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ka temp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dala zadovoljavajuće efekte, zato što ih artropode dobro podno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loš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tori, nematode, gljive, bakterije, virusi, alge i više bilj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predatora najviše se koriste neke vrste riba u suzbijanju komaraca, zato što se hrane larvama komara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e su u eradikaciji malarije u Izraelu, Turskoj, Grčkoj, Maroku, Alžiru, Rus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akedoniji nije bilo rezultata, ali bilo je vrlo uspešno u oblasti Istre i Kvarnera. Niske temperature vode, jezera u Makedo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reporučuje se istovremena upotreba riba i insektici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skup mera i postupaka za uništavanje zglavkara, najčešće insekata, izvora i vektora transmisivnih zaraznih bolesti, kao i drugih štetnih insekata od medicinskog i higijenskog znača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ijska sred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rija razvoja i upotrebe insektici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vajaju se četiri perio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-primena prirodnih produk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duže je trajao, do 184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više su se upotrebljavale biljke-kukurek biljni produkti: nikotin i terpen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na ulj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e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i period-fumiganti, neorganske komponente i naftni deri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ao je od 1854 do 193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vom periodu je sintetizovan DDT (Zeindler, 1874. godin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li su primenu i ugljen disulfid, cijanovodonična kiselina, arsenati, produkti naf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ći period-moderni sintetski insekticid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1925 do 196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više sintetizovano različitih organo- hlornih, organo fosfornih jedinjenj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 se i danas kori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 period-hormoni i feromoni. Od 1967. i danas tra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dela insekticida prema porek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jn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tski insekticidi ne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tski insekticidi 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iljni insektici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ot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et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baz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en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ntetski insekticidi ne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jenja ars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ntetski insekticidi 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najbroj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hemijskom poreklu dele se 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hlorna, organofosforna, karbamatska, piretroidna, fumigantska, tiocijanatska, nitrofenolna, organsko-fluor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upstance slične insekticidima ili pojačavaju njihovo dejs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ivatori, atraktanti, repelenti, nosači insekticida, regulatori rasta, infibitori sinteze hit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dela prema načinu delovanja odnosno prodora u organizam insek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estivno, respiratorno (inhalaciono) i kontaktno dejst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estivno dejstvo ispoljava se kada insekticid prodre u organizam hranom ili vod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ci pripremljeni sa atraktant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jenja fluora, arsena, organofosforna jedinjenja, soli borne kise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Znača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prečavanje i suzbijanje transmisivnih zaraznih bolest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Borba protiv vektora-prenosilaca uzročnika transmisivnih bole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aksi insekticidi imaju kombinovano dejstvo (2) ili sva tri dejst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aktno dejstvo-kontakt tela insekta i podloge na kojoj je aplikovan insekti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fosforna jedinjenja, organo-hlorna, piretroidska jedinjenja i karbamatska jedinje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o (inhalaciono) preko disajnih org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kticidi iz ove grupe predstavljaju najjače otrove I njihova upotreba je ogranič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jan-vodonik, ugljen-dioksid, sumpor-diokdid, naftalin, etilen-oks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blici insektici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šiva, rastvori, emulzije, suspenzije, granule, tablete, mamci, paste, aerosoli i štapići za dimljen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da bude profilaktička i protivepidemijska 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našim zakonskim propisima dezinsekcija se vrši pri pojavi: pegavog tifusa, povratne groznice, kuge, malarije, vašiljvosti tela, zaraznog proliva (samo u slučaju pojave epidemije) i salmoneloz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ovodi se dezinsekcija ličnih predmeta, stambenih i drugih prostorija i prevoznih sredstav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lučaju pojave malarije sprovodi se i dezinsekcija naselja i okoline nasel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bog razvoja rezistencije artropoda potreban je planski  pristup u rešavanju suzbijanja štetnih artropoda uz korišćenje svih raspoloživ resursa pre primene hemijskih sredsta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e dezinsek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han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ij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han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im sredstvima uništavaju se insekti, menja im se sredina za razvoj i održavanje  ne zagđuje se životna sred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at ovih sredstava je ogranič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rinose smanjivanju broja artropo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šćenje, pranje, mlatilice, klopke, mreže, češljevi za depedikulaci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dikulacija-uništavanje vaš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0:12:54Z</dcterms:created>
  <dc:creator>AZURE</dc:creator>
  <dc:description/>
  <dc:language>en-US</dc:language>
  <cp:lastModifiedBy>Korisnik</cp:lastModifiedBy>
  <dcterms:modified xsi:type="dcterms:W3CDTF">2019-11-22T08:52:57Z</dcterms:modified>
  <cp:revision>23</cp:revision>
  <dc:subject/>
  <dc:title>Dezinsekcija</dc:title>
</cp:coreProperties>
</file>