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D51-84B6-4E02-A88E-1D4BF60E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DC5-D33A-4E3B-A6E1-E0BBFF4E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AD8-FD04-4080-885C-85D148CD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FDC-3539-4201-B1D6-52C526D4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F563-913C-499B-A0A6-5681BBDE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47E6-9739-447F-B771-AC5F5420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941E-F138-4E3B-BD49-5FCAD7D5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46A7-A333-4600-B998-1F99F3AB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23B2-9411-4E6F-B6FF-A6E24110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4043-BB53-4D1E-B4CB-C43DA05D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96C1-23B3-40C0-A4C9-44FDA49E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D6B-D22B-4C0C-80B5-6E712E41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B4E5-FE0E-47BE-8985-FFA83263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FB68-8345-4BC5-95D5-7BBBBD40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1BA4-FB0D-4D71-9B9F-B975F9E7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983C-E09D-4F9B-B755-FF2EF9D9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305B-B404-4E20-A7BD-CCB6D242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5B34-CB24-4392-9011-E4DF7D39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5DD-4013-4292-A95B-2182717B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025-5E84-4D5A-8AAD-54547864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815-0D3D-49BB-BF1E-F0715AA5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7A6-FCA1-40EE-81DF-A9F45B5E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04A-65C9-4BAD-8A38-9E1765B8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1DE-0146-4D2D-8EE4-AE9919CC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7AA3-153B-4812-B12D-BF78FB34413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B299-532E-4593-9D10-070A775F11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Times New Roman"/>
              </a:rPr>
              <a:t>ČUVANJE I TRANSPORT VAKCINA "HLADNI LANAC"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ransport i čuvanje vakcina pod određenim temperaturnim uslovima od proizvođača preko distributera do krajnjeg korisnika zove se hladni lana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 1997. (Odluka o imunizacijama, Službeni list SRJ 27/97) odredbe o hladnom lanc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ežim hladnog lanca strožiji je kada su u pitanju žive vakcine, naročito od osetljivih virusa kao što su morbili, parotitis i rubeola, kao i za poliovirusnu vakcin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Blaži kriterijumi za BCG vakcinu, mrtve vakcine i toksoid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Jedina stabilna vakcina na višim temperaturama vakcina protiv akutnog hepatitisa B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e vakcine treba da se čuvaju u specijalnim frižiderima, ali ako ih nema, onda u običnim frižiderima za domaćinstvo, ali je obavezno prisustvo termomet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emperatura mora da bude između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ladni lanac se kontroliše primenom određenih indikatora promene temperature tzv. monitorim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aka zdravstvena ustanova mora da koristi rashladne uređaje za čuvanje i transport vakcina, a u tim uređajima moraju da postoje indikatori temperature (termometri ili monitor-kartic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onitor-kartica je karton u kome se upisuju podaci o vakcini (datum, vrsta i serija, lokacija), počevši od proizvođača, preko distributera do krajnjeg korisnika(onog ko primenjuje vakcinu), tj. na svim karikama hladnog lan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i i jedna specijalna traka sa otvorima obeleženim slovima A, B, C i D. Ova traka se aktivira kada vakcina počinje put od proizvođača koji je aktivira, ka korisniku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 kartica je neprekidno uz vakcinu, do utroška poslednje doze. Hemijska traka je osteljiva na temperaturu iznad 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stepeni i počinje da dobija plavu boju, od mesta gde je aktivirana, odnosno od otvora 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ma širenju plave boje može se zaljkučiti koliko dugo je vakcina transportovana i kojoj temeraturi je bila izlože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tvori A,B,C odnose se na temperature iznad 12° C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tvor D je specifičan i pokazuje da li je vakcina bila čak i kratkotrajno (najmanje 2 sata) izložena temperaturi višoj od 34° 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vi podaci na monitor kartici o kritičnoj temperaturi u toku transporta odnose se samo na više nedozvoljene temperatu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se radi o nižim temeperaturama ispod 0°C, onda se to kontroliše specijalnim dodatkom tzv. «friz voč» monitorom, jednom cevčicom sa rezervoarom napunjenim crvenim mastilom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aj «friz voč» se nalepi na monitor karticu, a koristi se u toku zimskih meseci kada se očekuju niske tempera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ehanizam ove kontrole je takav da cevčica puca na temperaturi ispod minus 4°C u toku jednog sata i oboji crveno ograničeno polje na monitor kartic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a kontrola temperature niže od 0°C bitna je zbog opasnosti od zamrzavanja mrtvih i toksoidnih vakcina u tečnom stanju, koje ne smeju da se zamrzavaj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je «friz voč» proliven, odnosno, ako je neka od ovih vakcina bila zamrznuta, ona nije više za upotreb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9:49:53Z</dcterms:created>
  <dc:creator>Intel</dc:creator>
  <dc:description/>
  <dc:language>en-US</dc:language>
  <cp:lastModifiedBy>Intel</cp:lastModifiedBy>
  <dcterms:modified xsi:type="dcterms:W3CDTF">2009-11-10T10:04:41Z</dcterms:modified>
  <cp:revision>4</cp:revision>
  <dc:subject/>
  <dc:title>ČUVANJE I TRANSPORT VAKCINA "HLADNI LANAC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